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14A18-D66A-45F2-89E8-A12C6B49C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25913-7522-4416-9F95-BD08B01D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2C43F-7679-4CC4-A4B1-B9D31D714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2FD3C-B82D-4E94-8F28-63942EF4C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B1792-2A91-4C94-A9D1-94E5C1AB9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8C977-4226-491D-9374-E8540B159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54E1A-B89D-49BC-8F9C-B5951264F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4E5E6-1C44-496B-BD7A-FF223A0AE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58122-109E-431C-8105-4F52D5F06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8FB2C-DE16-4127-848E-8A4C482A0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A9940-F7FC-4A99-BC67-622D04196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34A11-41F4-46E1-BB06-BEF64AA03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81F92-EF28-4726-A172-23F28738E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0BD5F-0066-4327-95EE-2B3D83A48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5686C-CCF0-4467-99C6-BB9043CD6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ABD15-76A3-4EF3-A7A8-9B81A1E9F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CC2C1-0109-44F4-8EB4-FC0E114CD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31D1758-F53B-41A0-AFA2-6E37EBAA55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4DE0F4-C353-42A9-8EBB-DAA2840E5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3CB38F-30B0-4D71-A5D1-943CBC81E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99F014-AAEC-4538-BB68-F249CBB0D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875612-F9A5-4F78-8EAC-1612A5A865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C4750-B9D9-493F-9DE8-CF97EC757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825BF3-2A9B-45A3-816D-56415C337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0FE7DD-BCE3-4348-AB87-A182FBBD2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E3262C-CEF7-4292-AEF9-6629628B1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3D94D4-132A-41C2-83C6-182CF812A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628EFB-4B08-4349-B667-E5DDE7A40C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1FD9DFB-45C7-432B-A372-632B01E8A7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7EFEB18-B8DE-4758-B4B8-556015F102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9DDE05F-D24B-4431-AC76-51A7EAFE4A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F22EFAA-AE96-45AC-921F-2F881458DD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BD72C1-79C1-4D62-928C-5F05EBB8C3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7FEB9-8CEA-40A0-87C0-A421D8CBA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242D45-2558-4427-9BB2-664425F92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E74028-9326-4EA9-8A70-1F420761BD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304E38-4E3F-4D7C-AD3E-CD77B29AF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14D81E-0C10-42F4-9D0E-6225D5FA3C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4B8200-5521-41FE-A5FE-58A9C5C8E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8721F1-8296-466F-B207-831BD32BD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B4AC1E9-6996-42F5-BC7B-37A7AC640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461C750-9681-4327-9DF6-3973497BC9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AD26FFF-4732-4ADD-A764-52795B15E2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5A4CFA7-F3FF-43B5-8CA4-7522B75BBA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0E28E-E2E8-4AB1-8FEE-496A9C88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F0313C-9E78-4BB5-9B71-AF3668D772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617B66-A6F7-4759-BE45-A690230519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1E71470-8D72-46E6-8745-4F5F47A74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3914B8-C950-4B36-94C3-91CCD3D597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023CB0-03E1-473F-BB1E-67EA9F6A5D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C152EA-F60B-40C3-BB39-38E72A699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481903-F058-4897-A0C5-15DBFDA10A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BD8965-A06C-47E1-B376-176142C39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C882EF-F32B-4675-B267-BB0DD7F9C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87D0502-084D-4848-822B-0BBFD9D5D0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FED5B-4982-4EA9-BB64-B885EFCA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8859EF-6EB7-4B44-A033-6C4ACE612C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A79E1B-F6B9-48A4-8A2C-6A2E8D325E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8E2011-E599-410F-B81D-A49B96C993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4A52D8-E266-46C7-91EA-7F96FFEF5E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8F4221-D527-415D-ADDB-DE900DD6A7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BBD423-A909-4297-ACD2-38B567DBFF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4771AC-7DCE-4EFC-AB43-A0EC3D884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D3E02-D39A-497C-B5D5-A95D3DF93F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70938-298B-45AA-82EB-AB5121C64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46653-6325-406C-AC17-166AE3E4C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E5F1D-E1EC-4FFD-A6EA-2F1D0BCC8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34D6C-9753-4375-BCC3-011BAD692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78AA7A-2ACF-4C33-A7A3-63B8B0332A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081839-9C4C-4264-8A6C-9E905465A6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686C2A6-2CBA-4209-A29E-03E92688A9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84BCD4-9D8D-4970-83F9-9CDC630174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367BBD-6566-4935-B675-E63DD3AFE2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89EC29-A5EB-4A73-8234-8F641A424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24159CE-E684-4F9B-9B5D-34344B21B4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867B766-1495-4EEA-BE23-BB449D1C2E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21E7B29-928A-4036-B90D-EABEC9A3D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1552C-689C-4B20-B504-E91D021E3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613A17-E390-4442-96BE-6042FF168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B8FB95-A1BD-47D0-A8A4-BCAB6E6FF1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810FE9-8813-49FE-A6C1-DBD0C28AEF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4700460-BE4A-4D78-8480-5B06E590F0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5F5DC4A-50F0-4B67-A31A-21CDAD7063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DF4CC0-FC36-4A54-BA12-27E557DA8F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6B6F9A-BCB9-4E2E-A5F8-505D700210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842332-AC8D-4B1C-AA7A-E6FC5C8980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720923-AB74-48BE-A397-9E9592BBF5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CA78F6-20E9-4907-A747-941B416FAA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3F0BB-F611-41EA-A2ED-A258C5391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CF9828-0C25-48EA-AF67-8E47438C4B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501D0-5763-48BF-9CF3-1389ADD5E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01E557-55BA-4046-B87D-E54DCB401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FA74A8-D88A-40C4-988F-46CD184BC4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25E659-1EAA-41C0-A89F-A734B0744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FD319D-B3C9-4BF3-9B34-578ADB8340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A28C90-C45F-404F-A44F-6BC6478A7D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EB9D-FCDC-4E5A-B49A-8153A9B7B2C6}"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6046-3108-4DE2-8D7E-EFF0A3B322A0}"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195D-35F1-4BEE-92FF-3E357A1013E7}"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8F08-DFE7-4F74-9D6A-58E35DF9E12F}"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A0DE-E3B3-4264-A9AF-11E175864FAD}"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6A04-DF51-427D-9E92-ABB96B493F47}"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13C9-660A-4657-9651-386ADA1F31B0}"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285B-03D0-49BD-9A3F-97BF0488FE8B}"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
            </a:r>
            <a:r>
              <a:rPr b="0" lang="en-US" sz="4400" spc="-1" strike="noStrike">
                <a:solidFill>
                  <a:srgbClr val="775f55"/>
                </a:solidFill>
                <a:latin typeface="Tw Cen MT"/>
              </a:rPr>
              <a:t>The Full Picture”</a:t>
            </a:r>
            <a:endParaRPr b="0" lang="en-US" sz="4400" spc="-1" strike="noStrike">
              <a:solidFill>
                <a:srgbClr val="775f55"/>
              </a:solidFill>
              <a:latin typeface="Tw Cen MT"/>
            </a:endParaRPr>
          </a:p>
        </p:txBody>
      </p:sp>
      <p:sp>
        <p:nvSpPr>
          <p:cNvPr id="351" name=""/>
          <p:cNvSpPr txBox="1"/>
          <p:nvPr/>
        </p:nvSpPr>
        <p:spPr>
          <a:xfrm>
            <a:off x="533160" y="1371600"/>
            <a:ext cx="8381880" cy="5486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turn to a moment, a memory, a day in your childhood. Picture it so clearly you can almost touch it. Divide your page in half. In the first column, write about this day, this image, in the dewy light of nostalgia—make the sun shine, pretend everything is pleasant. In the second column expand your range. Include any foreboding, fears, shadows, doubts, thoughts that make this image, this scene, more complex and nuanced than the first version. Read them both. Look at them side by side and compare worlds. Which feels more true? Would blending the two describe the truth more accuratel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9:11:58Z</dcterms:created>
  <dc:creator>Gottner-Grant, Deborah</dc:creator>
  <dc:description/>
  <dc:language>en-US</dc:language>
  <cp:lastModifiedBy>Gottner-Grant, Deborah</cp:lastModifiedBy>
  <dcterms:modified xsi:type="dcterms:W3CDTF">2010-02-01T21:44:43Z</dcterms:modified>
  <cp:revision>14</cp:revision>
  <dc:subject/>
  <dc:title>“The Full Picture”</dc:title>
</cp:coreProperties>
</file>