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D9AE6-38F4-4F2C-BFB6-F1A0DD3DD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7700F-0950-40E5-93E5-22BEF9458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5E060-8657-4974-A372-F668A1907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AD2D6-ACE5-4549-9910-8C95DA70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D48E6-9C1A-4EE3-973B-4A4EE46F6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2C056-B16D-4525-B330-320B6E920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AC701-829A-49C7-B262-842CE80E6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56280-8AA8-48D3-9479-FCD88A298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05F4E-9EA8-4C05-98FD-18473C38B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662F0-670D-41E0-9C00-5565DEF2F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AE888-732A-4989-B8CB-78AEA94F7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94B86-9AB5-4353-8A84-E3E7FBB3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1FE19-9C12-4819-A720-B3B187D3F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D3A2B-0C95-48A6-A2F4-12EF0A727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D68ED-5C61-4363-908E-EBC8524C3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08081-DE2F-4898-A517-03165C67B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34140-C371-45CA-B168-0DABE10AD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641153-4410-4452-8AD5-5F04C3D779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E993037-7FB7-433E-BAFB-AD39535D1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003165-2DB7-47CA-85FA-48FC5785B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DD0F29-3AAC-4419-8C59-E8D74AD38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0F765D-B49A-468B-871C-D26575556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CE8D-A764-42C3-9BE2-39149BC3A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DA84FB-D7D9-4B59-9DE8-8CA4085D9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EF1D44-2500-44D9-87C6-F9B6C81526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C5466C-B452-4BA3-99A0-0883D4C17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C78406-2950-4A01-8B1D-F1F14D3CE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78469D-5687-44BA-A587-C84D98460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D7591A4-1FDA-4C0C-A1C9-ECA17DD067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037CB7-D0DA-4602-A086-64472DED79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AB3B9EE-C18D-47AE-98B2-77693E1E1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68262C-BCBB-4D1D-9508-02BEC5F6B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827F3D-5D09-43E1-BC0E-284BF5204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5E54-9F31-4CB3-8178-B745D78F0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C0E934-976D-4DDB-BE33-66DD291D1F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50EF6C-528B-466D-987D-822510F08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6416B44-0AD4-4319-8152-40ECBCF99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879C2E-A583-4C1C-8A77-CF3C05EB4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06E58D-86D5-40A2-8E59-A926F920E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0A4891-EF97-4E70-ACF2-CEB914499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807C2B-CED1-4E04-B05F-D12A6D903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B90EF2B-8A8B-4A25-8F02-22B53544E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6C54A1B-31A2-4610-AFBC-B112ACB1D7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82B99AF-ED3D-47B1-AFB1-9EF09B54FE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449CF-CD07-460A-8492-F66AF0B4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5C8D1C-5AE2-4B26-B173-6F40A1ADA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575161C-B681-49BA-9DE6-02F19CAB3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0D9B66-7EC5-4218-BF5A-A1FEEFF96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F5028D-4E7F-4848-B24E-F97095436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A731CB-6EE6-4E4A-9375-8729D0B4A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32A537-4BED-4E97-A33A-6A27E880F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7D6816-E7CC-4E75-AF00-9D1727DFA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7B28FD-314A-499D-A0F5-C57E93FE0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A2683E-F643-4DD7-BA8F-B512E31DD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2919B39-93D7-4F3E-AEF4-927DB3646E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50404-4B2E-4AC3-8CA7-D23EE3235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B9E089-F210-48BE-A968-D9AE524FF0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6CA130-C8F5-4FBE-8861-80462D9907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BBDD7-3510-47F0-8421-98E3C2ABD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C4E32-AA36-4190-8F27-FFC3C6952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7516B-03F1-47C8-B6C8-283FB4F07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2ED15-AD52-4644-8A95-C132078D7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EE58A-35A4-4D8D-A974-C5C72A5998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A55F5-3488-4D8E-8CD6-AD2DD9EC6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51F34-7374-4226-93FD-CF953B091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659C8-6802-4B5F-8D6E-CC786563B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E4A6-1B1F-4687-AFDF-7BAD6871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565952-213C-4D07-A3F4-BE6A3BE732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1786B9-5B2B-42A4-90C5-52B943E45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2F4580-4D72-466F-A9C9-F0E85F7385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8905483-82AA-4D07-B0F2-320D24B6B9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42225DD-37C5-4757-84C7-B2E981F700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136BCD-0AAD-4794-BCC4-96554CC21B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3C258A-1F51-4C28-A9F7-71168ECFC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4FAF8E9-BEF1-408D-AAC9-82302EE0D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E17EF4-0334-4849-A379-864E8DF395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A67330-5827-41F7-955E-E4E0D42584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BCA3-14BA-4671-A045-4A775985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E8C624-6019-4084-B8A1-515925B26F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C18BB2-8517-4610-8BBE-EC693905A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E733307-6CE0-4AC5-84F0-D0B6596A3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F308CE8-A1D8-4F7F-B73B-A5EC857906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CF27DF8-D79D-4D23-9F07-773AD55A9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7225A3-FD26-4D22-A7BD-F7C298C35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139AD-4E2E-4793-BF5D-758F405520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36A3FF-6C32-4233-B5AD-019B6F49A4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B7F1C0-83EB-4CE1-A52F-51D829A51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08CC5C-3433-4684-B4F2-5F864B6A9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EAFF-C403-455D-97E4-6CEC2045E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0F53D-2F85-4A3D-9ADB-7142B96F1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A4C2D-677C-404E-B5E4-423019F0C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F94D2-793A-45F1-8A90-8BCE26334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EA15E-24FA-4C04-A526-2CEB4CF2D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6C84B-41B8-4A5C-9742-F76741412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126FC9-EC61-45EE-BAF7-2C4745EBFF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BF884C-1B22-4068-8485-43C8E2E86A1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6644-3854-429D-8F6E-6B6CEC169EC6}"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9FA6-9A13-4FE2-9F2B-008366115644}"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3D9F-7C4D-4872-8476-5AED35B9B8C1}" type="slidenum">
              <a:rPr b="1" lang="en-US"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EFFD-3357-4614-BF6E-85E351F0BEE5}"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E38B-16A9-4EFD-8F82-BF1446877A9F}"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96B6-BB09-4BAC-B6BD-5B9DC547CDD5}" type="slidenum">
              <a:rPr b="1" lang="en-US"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64C0-3ACC-41F9-ACC0-EAB2DF085733}" type="slidenum">
              <a:rPr b="1" lang="en-US"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6930-FFE0-4FE0-8E30-A7D125C97B48}" type="slidenum">
              <a:rPr b="1" lang="en-US"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t>
            </a:r>
            <a:r>
              <a:rPr b="0" lang="en-US" sz="4400" spc="-1" strike="noStrike">
                <a:solidFill>
                  <a:srgbClr val="775f55"/>
                </a:solidFill>
                <a:latin typeface="Tw Cen MT"/>
              </a:rPr>
              <a:t>The Full Picture”</a:t>
            </a:r>
            <a:endParaRPr b="0" lang="en-US" sz="4400" spc="-1" strike="noStrike">
              <a:solidFill>
                <a:srgbClr val="775f55"/>
              </a:solidFill>
              <a:latin typeface="Tw Cen MT"/>
            </a:endParaRPr>
          </a:p>
        </p:txBody>
      </p:sp>
      <p:sp>
        <p:nvSpPr>
          <p:cNvPr id="351" name=""/>
          <p:cNvSpPr txBox="1"/>
          <p:nvPr/>
        </p:nvSpPr>
        <p:spPr>
          <a:xfrm>
            <a:off x="533160" y="1371600"/>
            <a:ext cx="8381880" cy="5486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turn to a moment, a memory, a day in your childhood. Picture it so clearly you can almost touch it. Divide your page in half. In the first column, write about this day, this image, in the dewy light of nostalgia—make the sun shine, pretend everything is pleasant. In the second column expand your range. Include any foreboding, fears, shadows, doubts, thoughts that make this image, this scene, more complex and nuanced than the first version. Read them both. Look at them side by side and compare worlds. Which feels more true? Would blending the two describe the truth more accurate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19:11:58Z</dcterms:created>
  <dc:creator>Gottner-Grant, Deborah</dc:creator>
  <dc:description/>
  <dc:language>en-US</dc:language>
  <cp:lastModifiedBy>Gottner-Grant, Deborah</cp:lastModifiedBy>
  <dcterms:modified xsi:type="dcterms:W3CDTF">2010-02-01T21:44:43Z</dcterms:modified>
  <cp:revision>14</cp:revision>
  <dc:subject/>
  <dc:title>“The Full Picture”</dc:title>
</cp:coreProperties>
</file>