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D59B0-8DE5-40B9-8B48-AC6AB3BAC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050D9-863D-4B7B-B838-10F2E4D5D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7F1BC-ECFB-4D3D-9750-835AF9903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08E2C-91EF-4AE1-A391-76D9C9CE0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45CF08-DD4F-4224-9625-32D6831812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29A0D-9452-4E9A-93CE-C4ABD25B2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4CEE3-A9F5-4463-AE08-CC31DAB59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D8109-1D48-4207-A9A8-441EE5CD4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1F8D1-3176-4D62-B0AB-7702FC6EC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0FCC7-C1C5-4A9B-8634-C1E19734AB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E611F-CEE3-4092-A4E5-C46EFD1F8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BFA67-C251-4438-9689-837CB6E2C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543B4-D225-4982-93DD-91F26CEDF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FA253-9DF6-4104-A28F-186B5F124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DD893-454C-4D6C-9754-F83C94BDB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CA3E93-4E87-40BE-BBA0-89F7D3E5B0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1D3113-9974-4F41-85A9-86794D865A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927CA13-E0D5-44B7-A241-45F46B570A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D36831A-540F-4555-A349-E9E329F461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89A3C5B-6CE7-451E-BDC3-B6C5322083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77DFDED-25CB-4293-8FDC-60049F86B7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38A9B51-F1E9-4BF0-9EAB-9520FD2EC9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76206-20EF-4C4B-A510-D28D4E4D8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2EC1AC8-AC88-4A02-BD7F-3823681D13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77E307A-DE3B-4E7D-937F-84C526CB3C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EA87B36-2E24-455E-BF9B-7988454A8B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CD01428-FC4C-468E-83D6-2AC0E93A74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0B7E73F-C7A5-4C50-8714-49C8915527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CE8CD35-D86E-4358-8D95-3A73E13E48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75BE47E-0AB4-4945-82EA-70BCF228B9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FE0BB75-E09B-467C-A181-C5E1F13808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62FE2EB-6891-446B-9D91-1D3024ABE1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F21E21A-2D1B-484F-A0A7-EEBB9EC8B2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34273-26A9-4F4B-B2A1-F77E6FB4F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43E74E0-2E57-4326-BCC5-B9D2E544B6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CDB615C-93F8-4423-B96A-C0C1C9AFE6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51CDA26-2013-403C-81BD-2771949BF5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96BE42B-E4F2-4E55-B2EE-D3F960D863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1FDEDA9-0721-4829-A0CF-248E22B749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3B30158-168D-4CEA-A226-1D4DBC8189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4B720AF-9A58-4B6A-97BD-FC674AD66E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88EA479-D308-436B-8A83-AB0560BA0A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97787FC-F79B-4992-A341-E29CB54C98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573F028-AFA8-4A11-B204-56CFB56CC8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01A51-2160-433C-89D9-BB11A76F0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F5C9111-FF92-4DAD-A055-CB864D2DBB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4439CB6-D210-484A-ADC2-E0D4CC2B90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81F102E-3E2B-44DC-8F67-815C472436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0B48C10-1626-403A-B46E-D3534F3771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B79511F-8291-410A-8985-9C25581F99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2F02306-4F1C-4EBA-BC5F-8E7EC63474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EEB7D8E-019D-434D-9E63-E1C544CB08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02D9C2E-4019-4288-AEA1-A24231AA72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0770A84-EEDC-4758-84DF-8995EDE18B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8DE3F7B-AEED-4AB2-B88F-C5ADF93F7E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14FAF-1CE3-40D3-8DBE-5E76AB286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4577D45-715F-4FF1-8F91-F479FF04E8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CD3CB2-E688-4D51-8F87-B2AF07BBD9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6095E4-289D-40DF-8897-FA7B6FA9DC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0FC610-02A4-4946-A0E9-9F11FBD6D5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F0C680-8C42-46C0-8604-961F49A86A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253CB7-50EF-48C3-B1ED-0F516C506B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A9755A-C733-4806-B0E0-EFCCE9E609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953C4D-B97A-47BB-A9A8-16D389E422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48308B-EAF4-4506-8625-ACAA4407AF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B7C2AC-57A2-41CF-9B68-CE3A8F75CA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38F76-A344-4EE3-907A-8D4D35D60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7A6120-E3FC-4899-A41B-D5DE8C3F84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7C0B70-6EFA-4AB9-94DA-1955071354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16EC5F-C070-41A6-BE87-604A25058C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3BBBEDD-A590-435A-9EBE-39A8CBC5C8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E93BF19-E16D-43BC-81E3-05B5ADD28B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77B0083-E1A2-4E73-8D77-76E9299329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F44DBDD-B67C-4611-857B-E3D818ED30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EF7F102-ACD0-4F3D-A5D0-81D6CC9667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A9C7714-6CAB-4A25-A7DE-69A65C9106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040B994-CF0E-4635-AC73-B13B7DE6FE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063E0-9D28-414D-A385-ED0C2191F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215B652-49DC-4485-A3CD-8052A59B07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4735D21-4400-42C2-B31A-7FA18FFBEE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BF538E0-3072-4B5F-8D67-A6FF3A3295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C2B3B80-3A3D-421C-AFB8-ACB818D0D6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0C323B8-5455-4812-8ECE-A0AA8C5E50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0F1B24-605A-4C0A-B7A0-A671AEE24B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E86F89-3535-484C-9DFE-04264DE998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BC90E5-DC98-440A-8FB2-9F954E5250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41009F-8FEB-496D-8FCE-9EBB9562CD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5C4953-DD57-40D2-804F-A2D1DF8D9D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A5CCD-50C5-4A7E-A07C-2493BD7DF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644008-B02E-46ED-8FDA-9100CBA9A2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8A334E-AACA-471E-9CF3-D074F8CB0B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020024-85F1-4DAB-90CD-F14FFA6E96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30F2A8-CC18-438F-9D37-21B7091227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E77648-3A99-4246-A07B-B520FB2AA0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F12907-8A2F-4762-B99F-1FD3FC688A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B77DC2-A881-49BA-8A75-44ACB7C5C5E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31C95-845A-4474-B016-D63A11B87104}"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w Cen MT"/>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AA5BF-2B4F-4C69-86B0-1A636A45FDF3}" type="slidenum">
              <a:rPr b="1" lang="en-US" sz="1400" spc="-1" strike="noStrike">
                <a:solidFill>
                  <a:srgbClr val="ebddc3"/>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D27B4-164D-4F82-B250-B99CC752B380}" type="slidenum">
              <a:rPr b="1" lang="en-US" sz="2400" spc="-1" strike="noStrike">
                <a:solidFill>
                  <a:srgbClr val="ffffff"/>
                </a:solidFill>
                <a:latin typeface="Tw Cen MT"/>
              </a:rPr>
              <a:t>&lt;number&gt;</a:t>
            </a:fld>
            <a:endParaRPr b="0" lang="en-US" sz="2400" spc="-1" strike="noStrike">
              <a:solidFill>
                <a:srgbClr val="000000"/>
              </a:solidFill>
              <a:latin typeface="Tw Cen MT"/>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4B00D-B160-4E39-AFAF-15BDEE6022B8}"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478A1-BA81-43D0-892A-3B28FBF9500F}"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4A030-8E3A-4EE7-B188-DE661B89B50E}" type="slidenum">
              <a:rPr b="1" lang="en-US" sz="1400" spc="-1" strike="noStrike">
                <a:solidFill>
                  <a:srgbClr val="775f55"/>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74CFA-2374-4F55-9612-D81DC114F4A6}" type="slidenum">
              <a:rPr b="1" lang="en-US" sz="2800" spc="-1" strike="noStrike">
                <a:solidFill>
                  <a:srgbClr val="ffffff"/>
                </a:solidFill>
                <a:latin typeface="Tw Cen MT"/>
              </a:rPr>
              <a:t>&lt;number&gt;</a:t>
            </a:fld>
            <a:endParaRPr b="0" lang="en-US" sz="2800" spc="-1" strike="noStrike">
              <a:solidFill>
                <a:srgbClr val="000000"/>
              </a:solidFill>
              <a:latin typeface="Tw Cen MT"/>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A1245-BF04-4E34-96F0-41DF70AEAF07}"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t>
            </a:r>
            <a:r>
              <a:rPr b="0" lang="en-US" sz="4400" spc="-1" strike="noStrike">
                <a:solidFill>
                  <a:srgbClr val="775f55"/>
                </a:solidFill>
                <a:latin typeface="Tw Cen MT"/>
              </a:rPr>
              <a:t>The Full Picture”</a:t>
            </a:r>
            <a:endParaRPr b="0" lang="en-US" sz="4400" spc="-1" strike="noStrike">
              <a:solidFill>
                <a:srgbClr val="775f55"/>
              </a:solidFill>
              <a:latin typeface="Tw Cen MT"/>
            </a:endParaRPr>
          </a:p>
        </p:txBody>
      </p:sp>
      <p:sp>
        <p:nvSpPr>
          <p:cNvPr id="351" name=""/>
          <p:cNvSpPr txBox="1"/>
          <p:nvPr/>
        </p:nvSpPr>
        <p:spPr>
          <a:xfrm>
            <a:off x="533160" y="1371600"/>
            <a:ext cx="8381880" cy="5486400"/>
          </a:xfrm>
          <a:prstGeom prst="rect">
            <a:avLst/>
          </a:prstGeom>
          <a:noFill/>
          <a:ln w="0">
            <a:noFill/>
          </a:ln>
        </p:spPr>
        <p:txBody>
          <a:bodyPr lIns="90000" rIns="90000" tIns="46800" bIns="46800" anchor="t">
            <a:normAutofit fontScale="92000"/>
          </a:bodyPr>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turn to a moment, a memory, a day in your childhood. Picture it so clearly you can almost touch it. Divide your page in half. In the first column, write about this day, this image, in the dewy light of nostalgia—make the sun shine, pretend everything is pleasant. In the second column expand your range. Include any foreboding, fears, shadows, doubts, thoughts that make this image, this scene, more complex and nuanced than the first version. Read them both. Look at them side by side and compare worlds. Which feels more true? Would blending the two describe the truth more accurately?</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19:11:58Z</dcterms:created>
  <dc:creator>Gottner-Grant, Deborah</dc:creator>
  <dc:description/>
  <dc:language>en-US</dc:language>
  <cp:lastModifiedBy>Gottner-Grant, Deborah</cp:lastModifiedBy>
  <dcterms:modified xsi:type="dcterms:W3CDTF">2010-02-01T21:44:43Z</dcterms:modified>
  <cp:revision>14</cp:revision>
  <dc:subject/>
  <dc:title>“The Full Picture”</dc:title>
</cp:coreProperties>
</file>