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C19CC-54D9-48E3-8283-ADFE414B7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17CEA-D0E6-4F5F-AD54-6F621837A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D2C90-8356-4B92-9CD1-E08A40DD9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E5ABF-3CBA-4574-BFDF-2FE7D9A7C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605531-D4A3-4325-BA5E-063AACE036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2EAC4-24C8-4D10-AD1B-62AC962B2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9C221-AE96-4E87-94C4-0F94F7CAC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45872-73F9-47B2-B038-1E161B7BF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C68D2-6799-46C2-B6FD-1FBC6EEC1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F735D-2153-4A4D-9762-0411A3C0B8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CB051-3584-4CD8-9605-14B936D2D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30B17-A556-4028-A2BA-4B378656F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2F6E2-4384-41A9-BD44-DD06125DA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B631F-D891-4376-A97A-F7CD9D0AB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4DCEE-F78D-410C-AE7B-8DF0B7319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61E43A-F05A-438D-9829-1AD77B5C20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C01916-E033-46D2-B85A-8551574AF1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47CE34B-B529-40DF-BFA7-A244C00438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91B2DF0-68C3-4079-AEEB-8E214415E7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1316DC5-5491-4EE3-9EDA-D21765940F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35FC8D3-5A4E-4249-BB7D-D7D499ACBD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DAE2BDF-F380-4149-B6A5-E189F7AC46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3ED49-BA50-4150-925D-F78991830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655317D-D262-4E48-AA35-0D492DAE10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0F58FF5-50E8-4E87-AA5E-E474F0AC3C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F341D93-1761-418C-862A-C7EA9E80DF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C1A912A-AA64-4FAA-B764-494BC68DE1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F1FCB08-BE06-49E3-9344-F488FF5351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F5EA669-C470-4826-837C-9118E6A41C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833E684-B324-44DC-B00E-380AE6E628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53A3762-C4FC-471B-9836-2C97502501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D590782-BE35-47B0-A3BD-4BDAA8306C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CAED076-2950-4547-B388-96B898544A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AE1AE-71F5-48C7-8B70-45C7EA460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14DA339-A469-4A59-AD4C-B823EE16AA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0620961-DC6A-4C46-A81D-41FC03A9C2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EE1B9FC-C675-471E-8EBC-E4DAA2BF4F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676D823-C9EF-466D-B564-615AB71F52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C907339-99F0-44C5-AF6B-A6BE732469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77B8940-62D4-42EE-85FA-681A225D23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4A00F3E-684B-4D5A-8622-ACA88C0767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2B542CD-7404-4A02-BBD7-5BADEEA46C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2DE9C89-153B-45CB-84D0-21EEA6AEAC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5022C5F-3D40-4D9E-A29E-5045A28FC6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D935B-4495-46F8-AE0D-DB53DD173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2F12F77-6983-4E41-8AA5-3F9C21DFE2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8036644-B932-4346-A49A-85AF56660C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331C760-A3F3-497C-AD8B-88CA3EDA7A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2AD9751-7583-46D6-A2DE-AA683DD061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E139F9C-9E70-441C-ACB9-C2A9898FA3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81D2084-D478-479E-B924-47FEC9F0C9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7015D88-308C-4B8C-AADF-708C9BB3C1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00BB0DE-4E8C-4467-B401-69D7D9D2DF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45B4548-55AA-4405-9212-832A579E4F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B647BFD-6000-4AAB-9D71-73C9323F1C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02280-15CC-4BFB-BBE6-2E21D10ED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1CB4124-4E6D-456D-9FA8-70CCF2DE08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698504-6ADF-4273-8158-F7EBE55F4C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07ECF7-E219-47EF-A1D3-30BF49E925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B0F44F-4DB4-4CD3-ACAB-9591A87575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0E1947-D096-4938-808E-4318CD1379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9F80DE-E9F2-46B0-AAE2-B5D0774732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3065E9-4010-4049-9FA2-31BCA06EB3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9A4E7D-36B3-49E7-A6C3-E47E0C57E0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9C2246-AA70-40FF-82AE-0AE174DE7F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B3494D-6C07-49CB-BFFE-C3B1F1474A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98AF3-F610-4747-AA8E-990749754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9DB934-5C61-4183-B520-3084129822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8F3127-BEA9-4A64-8143-2EFC6B5E6A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744BEB-FDBF-4AC9-877F-4990CC94DD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42E5AAB-C121-4B0F-AEE7-8BA814D7D3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19E7E07-6A34-4B23-B5A2-D6B27F3526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1EC3B73-FEBE-4F42-B168-14C667F45E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CE79D1E-2DC0-4DCF-85EB-48A594607F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E0E5822-CA72-4A3A-BD89-80F537FAB9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CA4B1ED-0049-46B1-B8E1-00D2ED84A1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4F6E6D0-163B-49B8-B547-16640EED5D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14095-0534-44FA-8E1E-5F9D5606C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C9C4B71-FA7A-4117-B303-2C3276A92B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98B9A63-5AB2-4C09-9F29-1259348541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E18E6B1-DD03-44F1-B5AD-E2414BE30A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F725BCB-CD89-43FD-B413-ABF97DAACC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B5DB847-0A76-4194-A3A4-9D481F4F34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140691-DF08-4B2B-9778-6B12FF1452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2E36C2-1539-4578-9AF5-A630335A51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DCA913-3224-475B-9D60-D52AE92538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5BC847-A151-42A9-95D9-7D709BB77B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730C10-D558-40E0-B97C-A6E87A9E14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CF5C6-3233-4807-A61C-7FAC37F96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3A6484-2C25-4609-A5E5-9E643FBBC1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CE4657-E038-4E0D-8BA4-C0BA3C8B3F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B785A1-D4A7-4F3F-B3A7-A64A2830FA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95AEB6-9E2E-4AD2-9451-5CDA55A998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D9F864-7DDE-474D-BF98-FED4D1D647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30A2E80-3094-4303-B964-9055126D2D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8CD31B-1D9B-40A7-98EB-2EC37551C90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0598-FA49-44ED-B1B4-9D3F54002EA4}"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w Cen MT"/>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C7DC6-0C3E-425D-8864-F79F7179042D}" type="slidenum">
              <a:rPr b="1" lang="en-US" sz="1400" spc="-1" strike="noStrike">
                <a:solidFill>
                  <a:srgbClr val="ebddc3"/>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12F57-C583-4231-81CD-AC18F9A7EA99}" type="slidenum">
              <a:rPr b="1" lang="en-US" sz="2400" spc="-1" strike="noStrike">
                <a:solidFill>
                  <a:srgbClr val="ffffff"/>
                </a:solidFill>
                <a:latin typeface="Tw Cen MT"/>
              </a:rPr>
              <a:t>&lt;number&gt;</a:t>
            </a:fld>
            <a:endParaRPr b="0" lang="en-US" sz="2400" spc="-1" strike="noStrike">
              <a:solidFill>
                <a:srgbClr val="000000"/>
              </a:solidFill>
              <a:latin typeface="Tw Cen MT"/>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9CFB2-88B0-496A-BB80-21BF3B905DD3}"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4097E-8431-42CB-BE9E-8F9B47399AF8}"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290A3-431B-4D2D-99A8-3A6E5828AF88}" type="slidenum">
              <a:rPr b="1" lang="en-US" sz="1400" spc="-1" strike="noStrike">
                <a:solidFill>
                  <a:srgbClr val="775f55"/>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F663D-9846-4D99-8CEF-08FF044E5542}" type="slidenum">
              <a:rPr b="1" lang="en-US" sz="2800" spc="-1" strike="noStrike">
                <a:solidFill>
                  <a:srgbClr val="ffffff"/>
                </a:solidFill>
                <a:latin typeface="Tw Cen MT"/>
              </a:rPr>
              <a:t>&lt;number&gt;</a:t>
            </a:fld>
            <a:endParaRPr b="0" lang="en-US" sz="2800" spc="-1" strike="noStrike">
              <a:solidFill>
                <a:srgbClr val="000000"/>
              </a:solidFill>
              <a:latin typeface="Tw Cen MT"/>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6CC54-A0AE-4959-8BD0-BBB47AEAC182}"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t>
            </a:r>
            <a:r>
              <a:rPr b="0" lang="en-US" sz="4400" spc="-1" strike="noStrike">
                <a:solidFill>
                  <a:srgbClr val="775f55"/>
                </a:solidFill>
                <a:latin typeface="Tw Cen MT"/>
              </a:rPr>
              <a:t>The Full Picture”</a:t>
            </a:r>
            <a:endParaRPr b="0" lang="en-US" sz="4400" spc="-1" strike="noStrike">
              <a:solidFill>
                <a:srgbClr val="775f55"/>
              </a:solidFill>
              <a:latin typeface="Tw Cen MT"/>
            </a:endParaRPr>
          </a:p>
        </p:txBody>
      </p:sp>
      <p:sp>
        <p:nvSpPr>
          <p:cNvPr id="351" name=""/>
          <p:cNvSpPr txBox="1"/>
          <p:nvPr/>
        </p:nvSpPr>
        <p:spPr>
          <a:xfrm>
            <a:off x="533160" y="1371600"/>
            <a:ext cx="8381880" cy="5486400"/>
          </a:xfrm>
          <a:prstGeom prst="rect">
            <a:avLst/>
          </a:prstGeom>
          <a:noFill/>
          <a:ln w="0">
            <a:noFill/>
          </a:ln>
        </p:spPr>
        <p:txBody>
          <a:bodyPr lIns="90000" rIns="90000" tIns="46800" bIns="46800" anchor="t">
            <a:normAutofit fontScale="92000"/>
          </a:bodyPr>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turn to a moment, a memory, a day in your childhood. Picture it so clearly you can almost touch it. Divide your page in half. In the first column, write about this day, this image, in the dewy light of nostalgia—make the sun shine, pretend everything is pleasant. In the second column expand your range. Include any foreboding, fears, shadows, doubts, thoughts that make this image, this scene, more complex and nuanced than the first version. Read them both. Look at them side by side and compare worlds. Which feels more true? Would blending the two describe the truth more accurately?</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1T19:11:58Z</dcterms:created>
  <dc:creator>Gottner-Grant, Deborah</dc:creator>
  <dc:description/>
  <dc:language>en-US</dc:language>
  <cp:lastModifiedBy>Gottner-Grant, Deborah</cp:lastModifiedBy>
  <dcterms:modified xsi:type="dcterms:W3CDTF">2010-02-01T21:44:43Z</dcterms:modified>
  <cp:revision>14</cp:revision>
  <dc:subject/>
  <dc:title>“The Full Picture”</dc:title>
</cp:coreProperties>
</file>