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DE1F7F-BA77-4261-A562-CE898A7EA8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237C0-208D-4646-A747-562C12E6C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ACD28A-8984-4DAB-8304-B0BC3CCF23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108866-CCB1-4F80-A95B-7EE773F8B7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90C955-9C4D-4C72-9284-C75C0358DA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0E9E5B-8FB1-45FC-BF89-7DE69FCEBE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B8C2A5-DBA1-4C6E-9ABF-28A0FD4A17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4F4C9A-EA91-45A4-9647-09326B005D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7933D-233F-4367-B09F-5704B89ECA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2E8EAA-DF20-4C62-AD15-CBFF063C2E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C663F-8469-4EC5-BE60-1F860D4A25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EC423-9AE9-4AE8-BA14-8804124C4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D5B7B-D336-41A4-8524-E5C60ED1A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F3FCE-8DD4-4AD7-B856-3BE5A57A1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CCAFD9-0496-44CE-A727-9E57E24A5A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2E9FF2-1A4E-425F-8D8D-64468151DC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CEC3A3-9A29-46CF-BB66-5D7116BE66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E886E66-9AB6-428B-9FC3-7325F58A40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E484E97-8D4B-42DC-A713-78D6FAD567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7D53E90-8892-49E6-92B8-02CF5BB9EC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5BE154B-B946-4684-A400-B76AF848B0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FCC3B0F-A649-4670-91CE-CE59D4EBFA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DDFD7-04B0-43EB-9AE6-1103956A1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D0274EF-24E6-4243-891C-0DD3BF607A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016CDDB-9DEE-4EB6-810B-7CB4DAAC7B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8FE90CB-7404-4631-976B-0CDE45B26D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B0E7A08-6C74-49C8-95E6-85CF6D49CE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657719E-E67E-4762-B1B1-15DE8AB130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735D301-67E1-42D5-8744-6B8B01A0F1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5A28D97-C78E-434B-8968-E6C0F087F5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183D2EC-44C3-4FE0-953C-B9F484095B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1184BA0-C922-442B-AE3A-096C0CEFEC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D587237-F538-4D68-B61D-8A3DCB1C7E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9767F-03D7-45A5-8746-59B4BB37F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5D5EF2C-1808-4157-B42E-46C20A1142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EB1D22F-766A-4F58-A9C2-F03CD80B48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AC14742-19E5-47A9-8DC5-364E3C3D3F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CDF09B0-25B5-4562-B548-B0198FF168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9C7A21E-8FC0-4BF8-8131-8223E1E846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0488CE4-D23A-4FB2-B268-A9B5F3D4C5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0004101-7CEB-4255-B02F-FF6F0947D8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AE2D9A5-A0BB-4418-9792-C6D5787BCE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7D3285C-16C7-4960-9639-6BBEDE5CF6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2E42D67-1088-44D4-B6EA-BECA2EF620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069C5-5C76-4EFA-837C-694171D08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061EE4C-0E53-4C20-AFF7-A205E1F0E1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07B25E0-3CA6-446B-BD8D-CEF4B94880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4A93265-5074-474C-A68A-B1059D91F8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294524F-3590-4217-8324-E07443A418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E728C51-8ED7-4F90-A5B8-527C8E8F55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7CE9BFD-1C10-4291-98EB-D6E99FEE6C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22C1415-79A6-4CC6-B632-8A3B5A2CD6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CA370BD-B283-4A41-BBB6-5F8258E7D4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6933E4E-6211-43F2-8751-EF9AC5896F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A5D8F07-0376-4A44-9419-AEAA531915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6F7ED-CA00-451E-97A6-FE2EB4BE9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A3AD308-876C-4E6C-AF13-FD8CF1673F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EB5242-DE48-401D-9301-9D17ECDA8A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A347F9-E219-4A08-9061-D04EF1E061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542337-37C9-4F2E-ACA2-40E4E0BCCC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FA36C2-74C7-447F-B88F-5DDCFEFFE9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16C24E-09BD-4F96-A485-4470540CAC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144D9A-819E-45B8-8413-7E92AC064B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5EEE16-C26C-446C-A041-8AD971D5CE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1C0561-602D-4437-81EC-9F80867837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FBF0F5-EF84-46D9-9B3F-F1D4CB778C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39CF9-6D56-4331-B64E-9F4BCDDEA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5A6D68-9F83-45AB-9D6C-B3C9110091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CE7391-4511-430E-A343-7020E4FCBEC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0D62A3-76D9-4DBA-AECD-1B1B1C1312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586A53F-EE6B-4861-ABF5-7F070401B9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E16EB15-B00E-4C04-A8B9-B153E90F32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5982560-318D-448F-9DFD-335AC23534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A04A434-A5D2-40D6-8113-66A8388B30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CE22416-24E1-4357-9FEA-9C54A562CC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2833C19-F5BD-4C39-A8E0-845886EB3D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CF3382A-F24E-4AC6-80F7-EDE99CB9D3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02FE5-FBDC-4EF9-8149-89A18DCFA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C0A3244-F26B-4AAD-8FD4-FDBA73DDAE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FCE5CDF-F09C-401D-A7E0-D16FE6DB48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1CD484C-5526-4C9D-AB14-92EA95B19E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604F754-C3F4-494E-B224-DE0D283184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5AACD441-507B-4453-B2B1-22BBAA2AEA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1F1BCD9-9E7D-4E90-AF46-8D8CD33A3B8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8080BF-7483-4FED-B1F6-1489F5EB8E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F141D4-D8A9-4845-99E8-FAF4B62954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72DCD9-97C3-4054-9269-C7A0FF940A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223E2B-F86B-4C5F-BFAD-A4822FCFA1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ADB62-A4C3-4D79-B202-2174985BC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8C11B7-EA0C-4FB5-AAA7-5B1DEFCB15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C16B79-AD0F-468A-8DF1-A950D7F111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3D4C2E-7E2D-47C9-A9FE-6F175DE99A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091EBD-054D-454E-A94B-37A21A3606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F8EA74-22EC-42AC-AE13-5343968F62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CF2CF34-ADEE-4BB9-AF34-01DE05D4A3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338BB9-8DD8-4E29-B16A-D4B56D062CD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F7646-226D-4674-B363-80B7FFEAEE78}" type="slidenum">
              <a:rPr b="1" lang="en-US" sz="1400" spc="-1" strike="noStrike">
                <a:solidFill>
                  <a:srgbClr val="ffffff"/>
                </a:solidFill>
                <a:latin typeface="Tw Cen MT"/>
              </a:rPr>
              <a:t>&lt;number&gt;</a:t>
            </a:fld>
            <a:endParaRPr b="0" lang="en-US" sz="1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w Cen MT"/>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CDAE9-FAE5-458B-A34A-C28E627CD67A}" type="slidenum">
              <a:rPr b="1" lang="en-US" sz="1400" spc="-1" strike="noStrike">
                <a:solidFill>
                  <a:srgbClr val="ebddc3"/>
                </a:solidFill>
                <a:latin typeface="Tw Cen MT"/>
              </a:rPr>
              <a:t>&lt;number&gt;</a:t>
            </a:fld>
            <a:endParaRPr b="0" lang="en-US" sz="1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6A8FE-14C8-48A2-AA9F-C8D4BAC2BC14}" type="slidenum">
              <a:rPr b="1" lang="en-US" sz="2400" spc="-1" strike="noStrike">
                <a:solidFill>
                  <a:srgbClr val="ffffff"/>
                </a:solidFill>
                <a:latin typeface="Tw Cen MT"/>
              </a:rPr>
              <a:t>&lt;number&gt;</a:t>
            </a:fld>
            <a:endParaRPr b="0" lang="en-US" sz="2400" spc="-1" strike="noStrike">
              <a:solidFill>
                <a:srgbClr val="000000"/>
              </a:solidFill>
              <a:latin typeface="Tw Cen MT"/>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F5630-560C-40A2-A2EF-410ED120A74D}" type="slidenum">
              <a:rPr b="1" lang="en-US" sz="1400" spc="-1" strike="noStrike">
                <a:solidFill>
                  <a:srgbClr val="ffffff"/>
                </a:solidFill>
                <a:latin typeface="Tw Cen MT"/>
              </a:rPr>
              <a:t>&lt;number&gt;</a:t>
            </a:fld>
            <a:endParaRPr b="0" lang="en-US" sz="1400" spc="-1" strike="noStrike">
              <a:solidFill>
                <a:srgbClr val="000000"/>
              </a:solidFill>
              <a:latin typeface="Tw Cen MT"/>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EC8A1-0D54-4EF4-9611-59400FDA38B5}" type="slidenum">
              <a:rPr b="1" lang="en-US" sz="1400" spc="-1" strike="noStrike">
                <a:solidFill>
                  <a:srgbClr val="ffffff"/>
                </a:solidFill>
                <a:latin typeface="Tw Cen MT"/>
              </a:rPr>
              <a:t>&lt;number&gt;</a:t>
            </a:fld>
            <a:endParaRPr b="0" lang="en-US" sz="1400" spc="-1" strike="noStrike">
              <a:solidFill>
                <a:srgbClr val="000000"/>
              </a:solidFill>
              <a:latin typeface="Tw Cen MT"/>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9D4EA-8BB3-4699-A2F8-1D45CA3D21D2}" type="slidenum">
              <a:rPr b="1" lang="en-US" sz="1400" spc="-1" strike="noStrike">
                <a:solidFill>
                  <a:srgbClr val="775f55"/>
                </a:solidFill>
                <a:latin typeface="Tw Cen MT"/>
              </a:rPr>
              <a:t>&lt;number&gt;</a:t>
            </a:fld>
            <a:endParaRPr b="0" lang="en-US" sz="1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4CC8C-89AD-4A0F-9501-8D07155BCBBE}" type="slidenum">
              <a:rPr b="1" lang="en-US" sz="2800" spc="-1" strike="noStrike">
                <a:solidFill>
                  <a:srgbClr val="ffffff"/>
                </a:solidFill>
                <a:latin typeface="Tw Cen MT"/>
              </a:rPr>
              <a:t>&lt;number&gt;</a:t>
            </a:fld>
            <a:endParaRPr b="0" lang="en-US" sz="2800" spc="-1" strike="noStrike">
              <a:solidFill>
                <a:srgbClr val="000000"/>
              </a:solidFill>
              <a:latin typeface="Tw Cen MT"/>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CC127-E662-4A3F-946B-56B1A2F04CA6}" type="slidenum">
              <a:rPr b="1" lang="en-US" sz="1400" spc="-1" strike="noStrike">
                <a:solidFill>
                  <a:srgbClr val="ffffff"/>
                </a:solidFill>
                <a:latin typeface="Tw Cen MT"/>
              </a:rPr>
              <a:t>&lt;number&gt;</a:t>
            </a:fld>
            <a:endParaRPr b="0" lang="en-US" sz="1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t>
            </a:r>
            <a:r>
              <a:rPr b="0" lang="en-US" sz="4400" spc="-1" strike="noStrike">
                <a:solidFill>
                  <a:srgbClr val="775f55"/>
                </a:solidFill>
                <a:latin typeface="Tw Cen MT"/>
              </a:rPr>
              <a:t>The Full Picture”</a:t>
            </a:r>
            <a:endParaRPr b="0" lang="en-US" sz="4400" spc="-1" strike="noStrike">
              <a:solidFill>
                <a:srgbClr val="775f55"/>
              </a:solidFill>
              <a:latin typeface="Tw Cen MT"/>
            </a:endParaRPr>
          </a:p>
        </p:txBody>
      </p:sp>
      <p:sp>
        <p:nvSpPr>
          <p:cNvPr id="351" name=""/>
          <p:cNvSpPr txBox="1"/>
          <p:nvPr/>
        </p:nvSpPr>
        <p:spPr>
          <a:xfrm>
            <a:off x="533160" y="1371600"/>
            <a:ext cx="8381880" cy="5486400"/>
          </a:xfrm>
          <a:prstGeom prst="rect">
            <a:avLst/>
          </a:prstGeom>
          <a:noFill/>
          <a:ln w="0">
            <a:noFill/>
          </a:ln>
        </p:spPr>
        <p:txBody>
          <a:bodyPr lIns="90000" rIns="90000" tIns="46800" bIns="46800" anchor="t">
            <a:normAutofit fontScale="92000"/>
          </a:bodyPr>
          <a:p>
            <a:pPr marL="293400" indent="-293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turn to a moment, a memory, a day in your childhood. Picture it so clearly you can almost touch it. Divide your page in half. In the first column, write about this day, this image, in the dewy light of nostalgia—make the sun shine, pretend everything is pleasant. In the second column expand your range. Include any foreboding, fears, shadows, doubts, thoughts that make this image, this scene, more complex and nuanced than the first version. Read them both. Look at them side by side and compare worlds. Which feels more true? Would blending the two describe the truth more accurately?</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1T19:11:58Z</dcterms:created>
  <dc:creator>Gottner-Grant, Deborah</dc:creator>
  <dc:description/>
  <dc:language>en-US</dc:language>
  <cp:lastModifiedBy>Gottner-Grant, Deborah</cp:lastModifiedBy>
  <dcterms:modified xsi:type="dcterms:W3CDTF">2010-02-01T21:44:43Z</dcterms:modified>
  <cp:revision>14</cp:revision>
  <dc:subject/>
  <dc:title>“The Full Picture”</dc:title>
</cp:coreProperties>
</file>