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917-D3DB-4A27-A7F0-98E51008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8C31-BDD1-4918-86F0-74109F5F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AE2-E687-48EC-8DC4-55BE58CA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89E9-E20B-4F8E-8B16-C8F69A9A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9B88-26FA-48DD-A915-F453766E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E9ED-C849-43BE-AF44-AAC3B964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F996-B675-47DE-8ED6-C0324FA0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A492-75BB-4E73-8AED-61B257D4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7A8C-CAA0-4E5E-A823-480A718C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0021-2971-4C3C-B3DA-FEF16A37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8B47-B0C4-4A08-8691-854FC381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C93B-D5BC-4E26-B020-5A5CF142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637F-F584-419B-9BE6-6D80565A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77F2-26F8-42D9-A197-0EF6B30A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E002-1926-4239-A020-7241E946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2657-A96F-4474-A971-95343A90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58FB-C85A-4465-984E-E5D76993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9C715-3158-4631-94A9-CC418276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A95A0-BCB5-4DC0-B6A0-3F94FC54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18931-5B6D-4313-BC75-EE5AE311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82D65-D8CD-4199-9880-7EEC0A7F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9D5F3-0D89-4023-AE2F-95AEDF36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6348-6FE4-445F-80A7-3F713CFE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98117-75C8-44FE-A0FB-7829F7C4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8D248-E92E-48E9-BFBF-465F79E6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0277D-334D-4BE2-ABBF-C7DD1BE1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12600-C08B-4FF5-948F-A06C6362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300E2-F287-45A9-8188-3CC952BD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301A6-DFE0-4717-BB52-21DEA8E9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48D97-4AC6-43A7-9A59-405F8C50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9CC1F-9819-4EB1-BDA1-B110280E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878C7-3609-49AF-B5A2-BAB861EB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058DF-3398-45E7-9837-53360F95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73B2-49E9-455B-9980-ADA3D60F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73072-C931-43EF-8506-253761B1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473BF-F34B-4C39-8608-C5BB8418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74F5B-6C05-49A1-8860-B0EDBD67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E1FFF-02A8-42B3-BC75-BAE9F572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2565B-96E9-4899-BA72-E349A75E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2FA1F-7B18-4EE5-9BB2-83143783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05117-3CE8-47EB-99A4-E186EF4D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BD538-3EF3-4043-BDDA-8107A674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92A62-C2EE-4600-8FDE-23EA3F29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BE756-7892-41E1-A714-045F0425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7C04-354D-436E-BBB2-325A4A13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BBE6E-91F9-4333-93BF-AC217CEA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E39A8C-2982-4CBD-87F2-92A8672D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AC9533-C524-4C6C-9A79-809FDD4C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179171-49EE-46BA-B72A-924E7D79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71310B-C489-4131-8EA3-1C19A1BB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DF8FE-D85E-4FB6-A847-1F19760E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127C9-4802-479E-9B1F-B2249F09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3DE86D-7008-4516-8F6F-8541DC1C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CE2999-C10A-4447-B2E4-1C8AD133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C753E5-2DFF-485D-95AE-F3976184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4D8-50AD-4F7C-8FAA-E4D62F83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1F625-A06D-49D0-847F-56D54215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B9DAC5-C4F9-41DB-AD58-778FBBA7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E344E6-127D-49D7-B88B-5697551A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7C94FA-1EE3-46D2-A9F8-4822B0CF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6F9D3-B19E-474C-9B72-9977568D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03069A-91D6-4933-913F-9636828B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42B341-8389-45B5-8503-B5164B8C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6D1D61-3F53-4130-8646-510C2A23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E0F1E-A76E-4065-B73A-B4089185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EAA9D-C067-43B9-B463-349E1D1B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78ED-828F-41E8-81E3-9803C193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9807FE-FE27-4E66-9B9A-4FD7163B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137BE3-D446-4BC2-8AEC-FC157CC8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E3CD00-B497-4650-9D80-CAA0C97C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449CEB-021B-4E93-8C48-11F20CAA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74A80C-6B19-411C-B8B4-E56EF611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28C319-AEF1-482A-A236-3FA25812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8F7D99-218A-4D70-8AD4-0375E217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286274-3806-4770-B036-F4171D84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586AB5-12DB-4739-A32F-7558923A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485204-4338-449D-B7AE-4642DF2A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DFA-C6DB-4AFF-AC56-4D12A6D5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E13334-D7DE-4187-A8F2-B3C0AF48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44FD57-790A-48E0-B58C-9AB06DF5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930C37-734D-43D2-9982-CD1CFCA6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745C0-6703-4ADC-AC2D-BB31FF1B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5C71EF-3B4E-4C3A-823C-D6CAC9E3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160-24A0-4E4E-8841-13333829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728D-077A-4E2B-A4FF-2758A29D99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2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2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4BB1-16D7-4CF4-A5B0-3F0BE8C42B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99A7-C775-4ED5-9C2D-7B467C30116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1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2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2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9f7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5e9f7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9f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e9f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4DA5-DC51-46E0-9CE1-053A9AFCC7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EF5F-D20C-4949-81C9-929F92F62B2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F130-D29A-4341-836A-DB2F05CBE5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9369-A513-4716-A6DD-57B109CFBF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20570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41f00"/>
                </a:solidFill>
                <a:latin typeface="Curlz MT"/>
              </a:rPr>
              <a:t>RESPONSE POEMS</a:t>
            </a:r>
            <a:endParaRPr b="0" lang="en-US" sz="72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352680" y="4343040"/>
            <a:ext cx="443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41f00"/>
                </a:solidFill>
                <a:latin typeface="Curlz MT"/>
              </a:rPr>
              <a:t>A Proces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STEP ONE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Select at least two poems you like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STEP TWO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Make a copy of the poem or copy it yourself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1500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You may print if available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STEP THREE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Write your impressions on the poem in the margins or in your Writer’s Notebook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1f00"/>
                </a:solidFill>
                <a:latin typeface="Curlz MT"/>
              </a:rPr>
              <a:t>STEP FOUR</a:t>
            </a:r>
            <a:endParaRPr b="0" lang="en-US" sz="4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Respond to the poem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Your thought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Feeling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Attitud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Any experience that comes to mind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86240" indent="-15696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Stream of consciousness is good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FINIS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Complete this for class tomorrow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8:52:01Z</dcterms:created>
  <dc:creator>Gottner-Grant, Deborah</dc:creator>
  <dc:description/>
  <dc:language>en-US</dc:language>
  <cp:lastModifiedBy>Gottner-Grant, Deborah</cp:lastModifiedBy>
  <dcterms:modified xsi:type="dcterms:W3CDTF">2010-01-20T22:25:37Z</dcterms:modified>
  <cp:revision>21</cp:revision>
  <dc:subject/>
  <dc:title>Response Poems</dc:title>
</cp:coreProperties>
</file>