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B055-22AC-4D77-AB3F-8D51C28E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E8B0-264F-4E75-AFF2-7211EF14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10BE-5D53-4862-90A7-6FDC0E49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5F0A-E222-4042-91E6-27BD7BAB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5AEE-3CAD-47BD-826C-C4FC1C94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C0A3-BB11-4292-BCA0-1DF34873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EFBD-D3C5-414E-8AC4-220AA3BB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9124-1966-44A6-A0A9-F73D633A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024F-6AAE-4AD5-971B-5E02682B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86DB-B0AB-44FE-A121-0245C22F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5FFA-8DCF-4B85-A01F-1FD54242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B7C1-9DE4-421E-B913-A0836517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644B-400E-429E-8C6E-0840BB49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49BE-994D-44A2-83C9-793A6B0D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34C1-271A-402B-81DD-5A42F10F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69E8-02F9-423B-890B-67CAA4CA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84CE-7ED9-4CF4-965A-E3428804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621138-F2EB-4DB3-9DD1-D8BD1AA3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F032E-8228-4359-AA2F-38FFFA6C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9FC014-7817-40E1-97FA-F7EC2966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A0455F-9447-4AC5-A901-7D158225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B0D2B3-C9AF-40B5-87C8-91A71D4B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495A-6AB0-4B1E-9B72-3F288F94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E3A816-5704-4F59-8B22-015BFEA8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D3556-4447-4DBF-BCE2-05539D38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47B8E1-335C-4267-8552-58CA0BAA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CE6757-4BD6-45F9-8235-356281CD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C8ED0E-421B-4EAE-986D-A9CC8E0E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98E57-3228-48DB-8ADF-6CB7A6DD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060D08-CC26-4F75-8FC2-8EDE0900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5CF32-A89F-4697-ABB3-0AF3F974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C7393-1419-4A5F-A952-33C9EE2E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36FAF-8CC1-4EFD-BC41-DF7D6E12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5485-4519-47BA-95C5-00878674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53CF2-2E93-4F99-88C6-3E9D33E0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FCF13-8289-415C-B969-9AA136B1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F47AE-4E50-4280-9A63-79DADF8E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EE8E0-0BE1-48FA-A2B3-146E0474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8BBDC-9371-45E2-B62B-4E3DD76B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29126-46EA-4DD1-96A2-AD4BF5A2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0E34E-9E38-437D-B8A0-0E6D12A9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082AD-62BD-4036-95A4-E6BB461C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6E228-241C-45BC-90DD-DD7B7D62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A69684-0E01-42C2-837D-8E19F46B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4DB3-9AE7-4FE2-A3E1-316E7734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3C3FA4-DC69-4BE3-BA9E-12339866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597D9E-66C4-4895-A452-E09F778A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4D1AC5-F5E3-48EA-8AB9-0CC0A033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261CFA-51DB-499D-A9DC-E98EC334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77E977-6746-4097-936C-F6462FA6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CE3BA4-87E4-4E19-B4AE-C09FED4A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B9CAE0-8BC6-43F3-A9F1-B2BB0C19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FA48E6-9BAD-4349-A470-A14B12EF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AB24D8-075F-432B-B066-C9D7DA9B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DBA16D-021C-4864-9198-42EC3538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9ACD-74CD-4CEB-AA72-DCC1F748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0F0F08-EC75-4F45-BA1B-8A9A6BBA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60BF08-88F7-4F4B-8C54-0233A863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40E18B-ACF4-4642-9C62-D5C4B9C0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B15F06-88BC-4722-83FD-50382BDB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D1D25E-9254-4FFE-AE0F-9B4C3BFC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7A4EDF-73F0-4709-918C-60B10324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291898-30F3-494D-A0B7-1CDD162C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871488-BFF2-4624-BBA4-DD5DBC36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2DAE7D-B88F-4BAA-AEAE-CEFDB8F5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696592-897D-43E0-8BED-57AC5FFC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74F8-DD29-4F34-9176-AD3A9DB1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BA49A5-2081-49E6-82E2-68905F04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351225-0C16-4957-97C9-09309A3D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8874D9-E2D5-4CDD-9BFB-1775F523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FA7510-72FE-4A3D-BED4-9D43C389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8E2195-5948-42BA-B4F1-8B48077B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0E716D-C600-438F-B549-FA193974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322E84-8A6B-40C9-A847-EC25C950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4A59E7-B328-4864-A34A-4B256203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98E795-BBAA-4BD9-B1CD-B4EC2312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3E0F52-E0A6-4B27-9CBB-0A0251F8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5E90-01FE-4188-A661-26F14F31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22DA3A-0CC8-46F5-9DB2-719BDCDC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05A0A1-C3BC-4D3B-876C-C1B2B46C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499D0E-DD19-496F-B180-66509B57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D61264-B562-4929-975D-113539B4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1FF9D5-F7D3-4C8A-A579-47356E70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AB76-54AC-4F95-BEF1-CCFE79F6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99B7-90C3-4BD1-8722-F1052A9990E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3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3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3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2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3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2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3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3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A106-E1F8-4C27-8893-DE5244E8AFA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208E-89F1-406D-8EB8-B4F1C09D4B1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1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3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3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3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2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3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2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3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3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5e9f7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5e9f7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5e9f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5e9f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E7F9-0E1C-4DCC-B4B1-027F8C66C72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9690-B4ED-4CDD-9430-B84533D4301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20DC-138B-4760-801B-EA50A721DB3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a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3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3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a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41f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3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7b0c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41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41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CA79-9744-4638-94B5-9E950287149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20570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41f00"/>
                </a:solidFill>
                <a:latin typeface="Curlz MT"/>
              </a:rPr>
              <a:t>RESPONSE POEMS</a:t>
            </a:r>
            <a:endParaRPr b="0" lang="en-US" sz="72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352680" y="4343040"/>
            <a:ext cx="443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41f00"/>
                </a:solidFill>
                <a:latin typeface="Curlz MT"/>
              </a:rPr>
              <a:t>A Process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1f00"/>
                </a:solidFill>
                <a:latin typeface="Curlz MT"/>
              </a:rPr>
              <a:t>STEP ONE</a:t>
            </a:r>
            <a:endParaRPr b="0" lang="en-US" sz="6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Select at least two poems you like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1f00"/>
                </a:solidFill>
                <a:latin typeface="Curlz MT"/>
              </a:rPr>
              <a:t>STEP TWO</a:t>
            </a:r>
            <a:endParaRPr b="0" lang="en-US" sz="6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Make a copy of the poem or copy it yourself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1500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You may print if available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1f00"/>
                </a:solidFill>
                <a:latin typeface="Curlz MT"/>
              </a:rPr>
              <a:t>STEP THREE</a:t>
            </a:r>
            <a:endParaRPr b="0" lang="en-US" sz="6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Write your impressions on the poem in the margins or in your Writer’s Notebook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1f00"/>
                </a:solidFill>
                <a:latin typeface="Curlz MT"/>
              </a:rPr>
              <a:t>STEP FOUR</a:t>
            </a:r>
            <a:endParaRPr b="0" lang="en-US" sz="4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Respond to the poem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50080" indent="-234360">
              <a:lnSpc>
                <a:spcPct val="100000"/>
              </a:lnSpc>
              <a:spcBef>
                <a:spcPts val="10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Your thought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50080" indent="-234360">
              <a:lnSpc>
                <a:spcPct val="100000"/>
              </a:lnSpc>
              <a:spcBef>
                <a:spcPts val="10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Feeling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50080" indent="-234360">
              <a:lnSpc>
                <a:spcPct val="100000"/>
              </a:lnSpc>
              <a:spcBef>
                <a:spcPts val="10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Attitud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50080" indent="-234360">
              <a:lnSpc>
                <a:spcPct val="100000"/>
              </a:lnSpc>
              <a:spcBef>
                <a:spcPts val="1001"/>
              </a:spcBef>
              <a:buClr>
                <a:srgbClr val="ae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Any experience that comes to mind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86240" indent="-15696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Stream of consciousness is good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41f00"/>
                </a:solidFill>
                <a:latin typeface="Curlz MT"/>
              </a:rPr>
              <a:t>FINIS</a:t>
            </a:r>
            <a:endParaRPr b="0" lang="en-US" sz="6000" spc="-1" strike="noStrike">
              <a:solidFill>
                <a:srgbClr val="241f00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e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Complete this for class tomorrow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8:52:01Z</dcterms:created>
  <dc:creator>Gottner-Grant, Deborah</dc:creator>
  <dc:description/>
  <dc:language>en-US</dc:language>
  <cp:lastModifiedBy>Gottner-Grant, Deborah</cp:lastModifiedBy>
  <dcterms:modified xsi:type="dcterms:W3CDTF">2010-01-20T22:25:37Z</dcterms:modified>
  <cp:revision>21</cp:revision>
  <dc:subject/>
  <dc:title>Response Poems</dc:title>
</cp:coreProperties>
</file>