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1C1-3E39-4CA2-B9BE-CA3BCD9E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BFD-48CB-4B22-BFAF-9EBCE7B2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2A1-504A-46BB-B915-688F07B7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8D36-92AA-43AF-881F-7239B469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E96-D4AA-4C16-96DE-78558012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F971-3AA6-4AA2-9A54-0A894FC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5764-E394-4768-ABFE-6C130D24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D5D9-D88D-4B91-9145-064EDDD8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13B7-BB78-4EB3-93B1-C26523B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7A17-496D-484B-BE20-A3DC1E4A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DAA-D261-45F8-9313-A2183DD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D56-BCBC-4FFC-8DFD-CACAD68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0BDB-F45A-427D-AF64-E82EA82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531-A050-4FE5-99F6-731EBBA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CDCA-C1DC-4576-8E7B-9111E8D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79A-7E55-48D9-9808-8D2284D1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536-3CAD-44FC-9C06-F0C5FD6B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82EA8-5DF8-4FF7-8435-37AECD19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CFF6C-A5BF-48E7-A269-3D5D02D8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C6EC3-22D1-42AB-B218-C4C08632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4C485-8287-4A0E-8972-13EC4DED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E6DD8-F8FD-45BD-B2C8-F701C089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546-67ED-4A7A-BB9A-714E25AB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E8938-DBF0-40E1-8320-AF9CB62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2568F-69CA-40BD-A75F-64896348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CB7D9-3B5E-4A04-B2A7-7F51193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83875-96C3-497B-99AE-16C2005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B41D7-6152-4439-82C7-0A026657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550C5-79EB-468C-8007-7F171988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259EE-9B22-4188-AF8E-AD898284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E7DD-D724-48BF-89E7-36D044DD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E805-77F6-4D86-BF55-1E4CBAFA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B5AE-9CDC-4955-961B-25E1A73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4B1-0148-4BB4-AF7B-0E5629E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F68B-F833-4F00-8CE8-6D8ACD9F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ACA3-0E30-48B0-B20F-64A51CDA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D069-6A75-4830-839C-77A14278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6ABE-3548-46E5-B41F-973E1683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EA10-F1F1-494A-B392-E2AA7DB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8D1F-D3CE-466A-8C8A-BB2EB139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EC4D-1EE6-49F9-A959-AED9C01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EC9D-68C7-455E-9B97-AEF9362D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76B5-2FE3-46C8-80DC-9F3A7BD2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77D49-BCA5-498A-9895-7D5EEB7E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A03-19EE-47BA-B1B6-A0C7D18D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AA023-C09A-4232-AA2F-0D94C19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87580-9A9F-4FCD-8D65-FA8F703A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C944B-2076-45D8-8147-CB493C49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E6ADB-2A09-432F-92EC-11D4E8D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39915-CCE9-463B-9F34-CE308BE7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C6A12-4656-43BA-82C7-79EF153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07DB2-B3E7-408A-835E-9205AF3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F51D2-09FF-42DB-9A95-031E2AD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CC4C5-39B9-493B-9EBE-C5560C7A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E9008-AE1D-49BD-9687-5599271F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C65-64B8-47D6-B73A-D415DAC9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56756-7F5E-4C9F-B97D-A8FE91DA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15030-384B-4906-8045-D5161D58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41088-CD8C-4BBA-98DE-9960506B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B9C87-1D36-484B-91CA-0E6EBB7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7EEFE-3BBB-49A6-A54B-A8778FA1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82450-B804-48EB-B61C-C6834078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10D77-DC38-44B1-907D-A63CCCA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4C6CD-949C-4868-AF43-BC78324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BBD35-0F70-4783-A8B3-20B675E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72C21-8A65-4DB2-8E16-B4B5D2D5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08DE-28D7-4532-AA59-A746E59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F7539-E519-43B7-B2C4-E7799F50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3BE00-9207-4CF1-A2D3-5DB066AB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A28A2-B3CC-45D8-A7F7-D4E9EF9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B61C3-EB8F-407D-B91D-EB0BC5B0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731D5-C38B-4571-833A-77677A9B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031BE-E68A-4B32-A68A-3D9633D4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9488A-2E12-4DB6-927E-81904358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19DBB-323E-4440-8802-ADF04BB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EC5C4-B564-40C0-9A3E-26A2594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11A5B-1276-40B6-8AAD-A917C0E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1BE-6C1F-4F89-B003-AB9C3A4B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93975-2608-43A1-B246-E6F4899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A6954-A0CD-461D-B3C1-9958486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6185C-1172-44D1-90C9-DC0661B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CE822-DF19-4BFB-A165-27D5647D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6EB75-3A82-4AEC-9B7B-89984831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614-B460-4BB0-8AC4-D1C73ABF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A4DC-F593-41DF-A384-FBAC04A555A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C7D-96C8-4487-A1F0-FBD922D6D7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7E1B-32F4-4196-BBB6-77FDC9D1D2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1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9f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5e9f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9f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e9f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B07-B331-4C68-BB2E-0316B4A3E6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95B-8560-4A09-8471-A1A0875791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3551-D04B-4E6F-8E04-6AD5FF84C9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198-E231-4566-97AA-916D6C17D8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0570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41f00"/>
                </a:solidFill>
                <a:latin typeface="Curlz MT"/>
              </a:rPr>
              <a:t>RESPONSE POEMS</a:t>
            </a:r>
            <a:endParaRPr b="0" lang="en-US" sz="72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52680" y="4343040"/>
            <a:ext cx="443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f00"/>
                </a:solidFill>
                <a:latin typeface="Curlz MT"/>
              </a:rPr>
              <a:t>A Proces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ON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elect at least two poems you lik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WO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Make a copy of the poem or copy it yourself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1500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You may print if availabl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HRE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rite your impressions on the poem in the margins or in your Writer’s Noteboo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1f00"/>
                </a:solidFill>
                <a:latin typeface="Curlz MT"/>
              </a:rPr>
              <a:t>STEP FOUR</a:t>
            </a:r>
            <a:endParaRPr b="0" lang="en-US" sz="4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Respond to the poe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Your though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Feeling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ttitud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ny experience that comes to mi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86240" indent="-1569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Stream of consciousness is good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FINIS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Complete this for class tomorro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8:52:01Z</dcterms:created>
  <dc:creator>Gottner-Grant, Deborah</dc:creator>
  <dc:description/>
  <dc:language>en-US</dc:language>
  <cp:lastModifiedBy>Gottner-Grant, Deborah</cp:lastModifiedBy>
  <dcterms:modified xsi:type="dcterms:W3CDTF">2010-01-20T22:25:37Z</dcterms:modified>
  <cp:revision>21</cp:revision>
  <dc:subject/>
  <dc:title>Response Poems</dc:title>
</cp:coreProperties>
</file>