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3411-9154-4164-BA8E-BD537174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2E3-BFAF-4F91-B250-318C63E0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D338-57A6-461D-A0C7-C5B1A737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7EE7-1040-4231-B677-91043E5A8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C969-FFE2-4FD3-A35D-8FE3D34B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053F-F65C-4C5B-A251-22B1A930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D596-99F7-4974-AEF2-F9934B3E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F6C2-D0E7-41F4-B365-DC322A7D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8F2C-773B-4723-9434-C9D9BD16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4E3A-D213-46C8-87E7-640CB888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82F1-3CDB-4583-91A9-7EB307D6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702E-A31C-4380-B127-B108CB66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24FA-0215-4231-87E7-DB697B27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62A9-BCF1-478C-B165-78DE304A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4847-D2B2-4BC0-BAAE-B83C5F1D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B59E-100E-41CF-927B-750781F9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7859-4197-4BAC-B820-912E5E02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5B93D-346C-4777-A6C0-B786E180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869828-220E-4450-A997-6BECB401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9FBCDB-AEF9-4250-B929-645585D0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448B3-478A-4B29-9715-81F493AE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EB02B1-1CDD-4CA9-AD10-1CA80669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839B-B19F-4633-A20A-432474B5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5B839F-273D-4E5E-9AD7-9F727CC5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05839-FA94-4AA2-ACCE-08872B85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BE26D-143C-401B-94A3-AF207309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8C358-5AA6-4989-B86A-EED83FBD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7E6B2-12DA-412D-96D2-A7B6141B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2773EF-9A2C-4EBE-95EE-3D091AB3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BC176-DF5B-4B19-90E5-F37B3673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6F7C3-8F92-4D75-9EFD-577961C1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BFEB6-A615-49D3-892C-2461F46A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E8452-DAE3-463B-B8A8-FB7F1EB6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A958-B41E-44FD-8AD1-FE7ABEC0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8CE93-26EE-4A47-BEAC-E3A18EC5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D8FE6-CDC0-4EC9-BA88-E6DEC1A6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C16AC-675A-446C-B142-546615C7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8FE3A-121E-4E9A-9B18-9D766117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8FEB3-1CEA-481A-8EC3-3F4EED1B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FD18D-B480-4610-8308-379F3EAA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6D060-FEE1-46CA-8246-42F2DC75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DC5B1-7F9D-445B-A7D2-2F0E96CE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0BD40-C028-4890-8841-FA3841A7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9E8547-0C48-493D-B1F4-9967D3B9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9C6C-8DA6-4C4E-8EDB-68EB5008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E55013-E637-4FA8-9DA4-7B0AD4B8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AC7598-A0B7-45CE-8893-978DA887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460A28-F25D-4CA5-A4D4-7A09B9CF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66CFEA-6953-4B06-B478-82DF36BB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20805F-CDF3-4EC4-8090-E8C18626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81387E-A1EA-4A79-8B28-87033870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1FC9C2-EFEE-4397-B560-037329DC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D05223-76C5-40A5-AF76-B0DE66C4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D69B1D-0712-4940-85C9-75C63E21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F3B82F-E024-4940-BA3B-80E3A456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8721-DB2A-4488-8A85-C6D16219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713E8C-36AD-4B5F-8CDF-43D9AE107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9C0A06-0CD2-4471-B5B2-D3ED9FF1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67423A-4357-40B8-8E1F-32F66335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6345AF-80A1-44D6-8B7F-7106DD53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1E0368-9AC3-44BB-B5F7-BD882DB7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A4306A-A9AC-44E2-866D-0CF4A6E5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D51F77-DEB9-4C97-8AC0-47B5F65C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9A0DCF-EAA1-4F02-B507-0F49F183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9A5CB3-F723-4D57-8E59-AA3FE3F5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F04BF6-531C-4A34-91EA-199CB333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F286-0746-45D8-9564-0CBB889B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E3F8FC-8074-4878-AEC8-40E5C926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E8DEC0-7D63-4503-B530-FBAEA5F2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CEA69C-A278-469F-BF10-CF7BD99E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9BF728-62E2-459D-82BD-63207B00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908487-5A15-4D72-9267-E3F9CC7F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513D31-AF0C-4D4E-91D5-DC1893E0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03C279-8E14-4797-A3A0-67AD185C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06E575-308B-4329-A832-AB5D2593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BF2CA3-C7B8-4B3B-8117-6ECBDC89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6080ED-4031-4C1B-8E47-F06E0E0A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F7E3-A27E-4B1C-94BB-470B1812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060576-E18E-434A-9E05-BC8C0064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6AB355-C640-4535-969F-4522D892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92964C-E4F0-46AD-BDFA-4D38B3BE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542AE8-735B-481B-BBB4-782E89D6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A0B946-D0A1-4A27-B388-462C5281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6252-BA62-4D70-863D-C207C4FB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D3F6-8AEC-443A-9794-5F3F81C2603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2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2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F19F-A64A-4398-B517-07F450975E0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1138-48B8-4AA7-BECB-0CAF12A117C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1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2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2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e9f7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5e9f7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9f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e9f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1F4F-AE45-46A7-B27C-C738A2822E9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5326-5990-43A7-B4DF-52393BF8A94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AA34-2229-4BF4-9909-E4E0A733058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E62A-00A6-40A7-B8E3-F3B92ADCF2B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20570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41f00"/>
                </a:solidFill>
                <a:latin typeface="Curlz MT"/>
              </a:rPr>
              <a:t>RESPONSE POEMS</a:t>
            </a:r>
            <a:endParaRPr b="0" lang="en-US" sz="72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352680" y="4343040"/>
            <a:ext cx="443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41f00"/>
                </a:solidFill>
                <a:latin typeface="Curlz MT"/>
              </a:rPr>
              <a:t>A Proces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1f00"/>
                </a:solidFill>
                <a:latin typeface="Curlz MT"/>
              </a:rPr>
              <a:t>STEP ONE</a:t>
            </a:r>
            <a:endParaRPr b="0" lang="en-US" sz="6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Select at least two poems you like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1f00"/>
                </a:solidFill>
                <a:latin typeface="Curlz MT"/>
              </a:rPr>
              <a:t>STEP TWO</a:t>
            </a:r>
            <a:endParaRPr b="0" lang="en-US" sz="6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Make a copy of the poem or copy it yourself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1500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You may print if available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1f00"/>
                </a:solidFill>
                <a:latin typeface="Curlz MT"/>
              </a:rPr>
              <a:t>STEP THREE</a:t>
            </a:r>
            <a:endParaRPr b="0" lang="en-US" sz="6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Write your impressions on the poem in the margins or in your Writer’s Notebook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1f00"/>
                </a:solidFill>
                <a:latin typeface="Curlz MT"/>
              </a:rPr>
              <a:t>STEP FOUR</a:t>
            </a:r>
            <a:endParaRPr b="0" lang="en-US" sz="4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Respond to the poem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50080" indent="-234360">
              <a:lnSpc>
                <a:spcPct val="100000"/>
              </a:lnSpc>
              <a:spcBef>
                <a:spcPts val="10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Your thought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50080" indent="-234360">
              <a:lnSpc>
                <a:spcPct val="100000"/>
              </a:lnSpc>
              <a:spcBef>
                <a:spcPts val="10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Feeling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50080" indent="-234360">
              <a:lnSpc>
                <a:spcPct val="100000"/>
              </a:lnSpc>
              <a:spcBef>
                <a:spcPts val="10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Attitud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50080" indent="-234360">
              <a:lnSpc>
                <a:spcPct val="100000"/>
              </a:lnSpc>
              <a:spcBef>
                <a:spcPts val="10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Any experience that comes to mind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86240" indent="-15696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Stream of consciousness is good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1f00"/>
                </a:solidFill>
                <a:latin typeface="Curlz MT"/>
              </a:rPr>
              <a:t>FINIS</a:t>
            </a:r>
            <a:endParaRPr b="0" lang="en-US" sz="6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Complete this for class tomorrow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8:52:01Z</dcterms:created>
  <dc:creator>Gottner-Grant, Deborah</dc:creator>
  <dc:description/>
  <dc:language>en-US</dc:language>
  <cp:lastModifiedBy>Gottner-Grant, Deborah</cp:lastModifiedBy>
  <dcterms:modified xsi:type="dcterms:W3CDTF">2010-01-20T22:25:37Z</dcterms:modified>
  <cp:revision>21</cp:revision>
  <dc:subject/>
  <dc:title>Response Poems</dc:title>
</cp:coreProperties>
</file>