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77E-C8B3-466E-B8A5-60C38287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151-402C-4A71-A52C-38022B1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E14-B3AF-4100-9259-B8A57231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E10-94A6-47D6-9292-784B01AE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B5FE-FA1B-4676-BC53-2D7FDCB1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6CB0-1145-47DB-A3FA-2D0F65EB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29A-CA71-4D90-B59E-139B1327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CDB-24FA-43B7-A3CC-239AD541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196D-6D49-4A3A-BC15-5F3B36A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FA49-B6BE-4E19-B084-00AF9BB0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B69A-A7A5-40AC-B2F2-721B511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941-40DC-4F57-8E32-44DB861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A4E0-1578-4267-8026-A4040109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E79D-4F8F-4C3D-8939-DC181CA4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DB1A-9043-4DEC-BA45-490DF85D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C730-F310-4A9A-8D59-886A4F8A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44A4-4B6F-435E-9AA3-A05F5BBD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126A0-87DF-4F59-B987-E630F380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4299F-06BE-46E4-872F-808283A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AC323-D648-4489-A89C-EF1FB9C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B74D5-03C0-4C09-B12B-480EB46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914A7-7E63-4B71-AB45-9AB99545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087-C232-4933-B934-5B6545A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DB460-389D-4D45-98F5-A2F1EB7B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A2BD9-F0F9-4554-8C04-0D6AAC6F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8A21D-57C5-4AB6-A3C6-5BB3F6EE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1F090-6BFB-4FAD-939E-0A222E87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A7061-706B-4268-9A62-75C30BEA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D94F4-AD73-4D00-9BA7-6ABC07F7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AF2EF-8E5C-4E34-947C-E107F9CA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1C52-3658-4A99-9F7E-635B7F93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D48C-B149-4336-912C-8F1600AE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09C0-2CD8-470D-A2E0-454E1506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FCA-4601-4782-AFF1-DA943EE6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7A33-9825-44D0-92D0-815C6BC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A2AB-C999-413F-A399-31A7D790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AB461-7F43-4582-99D8-0E1A90D6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9577-6DA4-4560-9F83-C308823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42A18-0979-4543-AF1C-4B445E8C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7A74-2443-42BD-8F58-F110DCF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11D3-CEAF-41A6-B18A-F4C3CB7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83BB-920F-47F9-99A0-3FA717C4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3028B-2190-4A90-9F58-6AE8671F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AB344-6DE1-4926-B638-1123D2E8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B55-7A89-4C43-BF32-4BB2184B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192B4-0E49-460C-B3CC-40F9525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0B663-1C81-404A-B913-151A8A4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0F178-423D-40EB-AB81-5DA210BC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FEC46-A974-49E7-9E7B-DDEEEB60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9BDC9-EB24-4D9C-B0A1-262DB562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7A970-CAA7-427D-A669-8D5A54E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28211-89C8-41BC-8752-3D33B8C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C35CB-75D3-416A-9796-7974511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73619-E59C-4E22-A77B-B644594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91113-1995-47AA-A7D4-C886959D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4ED-2D71-44EB-B055-C48DCA29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2C381-3D81-42F1-A6AB-BB67CB0A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77659-0DD6-4B6F-AA28-987CE5E2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3EB3B-1AF9-472B-8131-9B44672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1E9D5-69E3-4F6C-879C-EC69F01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839FC-7743-49A9-AFF5-6DAB77C7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7675F-0C58-4D4A-BBFF-6450404B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83C9A-CD75-4683-B83B-4E11EA48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1D828-35EB-49D7-BE11-DEA61D8A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FAC7C-A3C0-456E-ADFA-BFBB099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2C619-61F6-4AC3-8E08-D3D00A1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59F-57BD-4F2D-8325-DBC633B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002DF-A8E2-4A6B-B50B-024FAEF2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B2EE4-80FD-4DE9-9845-539610E5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8C171-6C58-42DE-A60C-DD136116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EB8A1-8AC9-4F00-9ABF-6D0B01A3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23DF8-DCEB-4580-8A97-013FC28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07FF9-E438-4647-BC85-2872C8FE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4002C-9AA5-465C-B147-FC399544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29D23-0019-49FA-B8FD-5B237B21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C49CA-BA5B-4D81-9295-AA36D69A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D617C-01FB-4E12-BE5A-2906F257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121-69EB-412B-AE92-E625D7B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018B9-50C1-451C-9ABB-42D1E811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B3F07-465C-43C3-A271-B63F803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C8DBB-9C06-44C9-ADFB-A0CDA705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9F13D-50E0-4525-8D32-3E44E036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27D7C-0DF1-48E8-92CD-FE43100A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8AF-2244-4383-A370-4FB40D3E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CF1-FDB2-4875-8DE7-0AD66D5B07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5D26-E562-4FFF-B9CC-D530745132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3340-5F1D-4259-8DBF-065A4334E3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1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9f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5e9f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9f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e9f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3992-68CB-455B-A5BA-280C7A5EDF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F4DF-7D49-4BE6-BBFA-E71C355776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D3C-44A9-4CE8-9811-D2465EF121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20E3-D159-42F2-B646-1DFB7E7B8D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0570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41f00"/>
                </a:solidFill>
                <a:latin typeface="Curlz MT"/>
              </a:rPr>
              <a:t>RESPONSE POEMS</a:t>
            </a:r>
            <a:endParaRPr b="0" lang="en-US" sz="72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352680" y="4343040"/>
            <a:ext cx="443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f00"/>
                </a:solidFill>
                <a:latin typeface="Curlz MT"/>
              </a:rPr>
              <a:t>A Proces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ON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elect at least two poems you lik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WO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Make a copy of the poem or copy it yourself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1500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You may print if availabl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HRE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rite your impressions on the poem in the margins or in your Writer’s Notebook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1f00"/>
                </a:solidFill>
                <a:latin typeface="Curlz MT"/>
              </a:rPr>
              <a:t>STEP FOUR</a:t>
            </a:r>
            <a:endParaRPr b="0" lang="en-US" sz="4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Respond to the poe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Your though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Feeling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ttitud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ny experience that comes to mi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86240" indent="-15696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Stream of consciousness is good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FINIS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Complete this for class tomorro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8:52:01Z</dcterms:created>
  <dc:creator>Gottner-Grant, Deborah</dc:creator>
  <dc:description/>
  <dc:language>en-US</dc:language>
  <cp:lastModifiedBy>Gottner-Grant, Deborah</cp:lastModifiedBy>
  <dcterms:modified xsi:type="dcterms:W3CDTF">2010-01-20T22:25:37Z</dcterms:modified>
  <cp:revision>21</cp:revision>
  <dc:subject/>
  <dc:title>Response Poems</dc:title>
</cp:coreProperties>
</file>