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568C2-E043-4617-84E6-2E69D77AF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7E10A-FD01-4F2F-A556-D7C0A9377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526BC-ABC5-4ADE-B370-32C62F03F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DC82C-678B-4D12-882E-7404220BF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59EDE-DF97-4CBF-B1DE-D44814956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019CA-6986-43CF-9CCF-CBEBC9EA9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50FFD-51E4-4E7B-BC24-EF9B43009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2EA41-DFE4-413E-88D3-DB97EC20D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2DE0F-8C34-4F8E-BDF3-5A7011CA2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AF9B9-BAD5-451D-BE25-5A2434070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9AF0D-4589-449D-9522-ABB0C6F66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B8E71-E54D-4BE9-A8E6-3242423CE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5959B-5846-4C7D-AE39-1382F41AA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0D159-E5C4-4BC8-882B-FD17944A0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2BBA2-C501-4946-80AF-B2B302788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7C4BE-5A97-47EA-BB03-B7267D8F3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4B531-08EF-45D2-BAB5-0DD6272BC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579490-1EA0-4AAC-A2F3-3D8E91F0C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1EDA0A-2270-4644-A264-3475494C2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BE1F13-2D80-4AA8-B18D-404D66620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9BA2B4-5271-4719-AFE7-98A005928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CD84B0-F257-43BC-B329-5B290E0FD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19992-E790-4FDA-9810-04ECDD1B5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4DE522-9B33-4776-8157-5256E5E36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CF04C5-81B6-4CC1-BCEA-605D4763B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6AF968-C152-4FF2-9A64-F1BB604A2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EBDC04-D026-4661-AAB6-B2D007285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C132FF-9B79-474C-83F4-A17DB206B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F040E3-C07B-46E3-88B7-B12449410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2F9DAE-038F-48F2-B458-9854E3F15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A0C340-80D2-40D5-8EE7-2F4FDB53F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FF8BBA-CD41-4643-895C-DBD016DB5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E99FA6-0872-4352-9604-473FB187F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AADB4-7731-469A-B600-11B2C155A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EC7B73-9867-4F2B-ABDB-E328C39F1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E4126F-493C-4863-ADA4-86B861F44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0C269C-0789-4430-A37B-58E52CF89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3E91F5-B107-40FC-94D6-A1571FEAB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C4B864-BD7D-4B7B-9EC4-D226675D7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FCD991-70AA-4389-BE60-A1E004F40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49BA04-BE55-4FDF-9ED8-FAF93C025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8577BA-A29E-4155-92E5-2F54B0CDB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7E19CE-F995-4BAF-B6B4-2EAFF931B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C0259F-2B72-4AB4-A879-094F1D24E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369AE-FC6C-45C3-B776-B5EF398C1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9B5031-7E52-41A6-ABA2-E16684B66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94B081-6E5E-4314-996A-FFFA9A5A4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285DD9-2A01-4359-9C05-85121033D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592A4E-1BC7-4608-9F82-23E627C25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139420-F639-4B0D-A92B-6986C845B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F511F6-43A3-4817-B314-73F2041FA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44F16B-1F60-4FD2-BF96-33D160C99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01AD9B-776E-4280-9C55-346F989E9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E9957E-F4D7-4689-8153-3A464C889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A1E8AB-BA8C-442B-889E-152636590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74EA9-6784-4642-B884-710D63A34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24101C-8E90-4367-80AD-E13B235FA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B968F2-C89E-44B0-A249-4A5D2C21E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E513AA-0BC9-46CC-B23F-51A29D364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49B9E2-31AF-44A2-9044-140533063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36D363-D428-4695-AAB2-14F4B7428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64ADFB-8029-49AE-AFE4-591251283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5E10E6-E417-4160-BDEF-322CDEA80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6489AA-CDFA-40EE-9C1E-AE865E878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F2F129-CFD1-4662-B76E-08D7659D0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D7A16D-90A5-4116-AF4C-F963A63EF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B1DAB-CA80-478E-A83D-2F6B81E70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DEC760-9227-4554-8AD7-77952B760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A72B8A-725B-4D90-8EB0-BE6DCCE90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7FD5C3-FCA5-47BA-81D9-59FD2FB6E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EFC2F0-27C8-4682-815B-8F6E78F32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B6567A-9B9B-4DB2-8728-1261C9A8A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26E623-AE4F-4CC5-B2BB-159952D88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157356-4F1D-441D-8720-2B2FA75F2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F97754-4AFB-4093-B17F-01197EBF3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8B93EF-270B-47F7-A06E-158826D46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DE0D46-E226-4C7E-986B-66553E4DD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512DE-733A-449A-96E0-A2EC5DC85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55EBE4-D3E6-4E7C-A1B9-9DE71D6B5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A087A4-B968-421D-84FE-0ED64660A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51B03D-BA51-477F-A7F7-097DEA024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56AC04-B255-4BB4-B23E-64E6BD3B3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2CD0FC-5CAD-4939-A76E-52A7B4DA9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1A18B-4CEA-43DB-BB8D-C8FC1B3D4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6f4f9">
              <a:alpha val="33000"/>
            </a:srgbClr>
          </a:solidFill>
          <a:ln cap="rnd" w="3240">
            <a:solidFill>
              <a:srgbClr val="ab9fb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e8e0f2"/>
            </a:solidFill>
            <a:miter/>
          </a:ln>
          <a:effectLst>
            <a:outerShdw dist="12600" dir="5400000" blurRad="0" rotWithShape="0">
              <a:srgbClr val="938b9c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9666e"/>
                </a:solidFill>
                <a:latin typeface="Showcard Gothic"/>
              </a:rPr>
              <a:t>Click to edit the title text format</a:t>
            </a:r>
            <a:endParaRPr b="0" lang="en-US" sz="43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639720" indent="-236520">
              <a:spcBef>
                <a:spcPts val="601"/>
              </a:spcBef>
              <a:buClr>
                <a:srgbClr val="ceb96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2" marL="885960" indent="-228600">
              <a:spcBef>
                <a:spcPts val="601"/>
              </a:spcBef>
              <a:buClr>
                <a:srgbClr val="9cb08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3" marL="1096920" indent="-173160">
              <a:spcBef>
                <a:spcPts val="601"/>
              </a:spcBef>
              <a:buClr>
                <a:srgbClr val="6bb1c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4" marL="1297080" indent="-182520">
              <a:spcBef>
                <a:spcPts val="601"/>
              </a:spcBef>
              <a:buClr>
                <a:srgbClr val="6585c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3889f"/>
                </a:solidFill>
                <a:latin typeface="Arial Rounded MT Bol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3889f"/>
                </a:solidFill>
                <a:latin typeface="Arial Rounded MT Bol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3889f"/>
                </a:solidFill>
                <a:latin typeface="Arial Rounded MT Bol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65C36-2B77-4DD7-A5BF-92B8556F0ED1}" type="slidenum">
              <a:rPr b="0" lang="en-US" sz="1200" spc="-1" strike="noStrike">
                <a:solidFill>
                  <a:srgbClr val="93889f"/>
                </a:solidFill>
                <a:latin typeface="Arial Rounded MT Bol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05c64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6f4f9">
              <a:alpha val="33000"/>
            </a:srgbClr>
          </a:solidFill>
          <a:ln cap="rnd" w="3240">
            <a:solidFill>
              <a:srgbClr val="ab9fb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e8e0f2"/>
            </a:solidFill>
            <a:miter/>
          </a:ln>
          <a:effectLst>
            <a:outerShdw dist="12600" dir="5400000" blurRad="0" rotWithShape="0">
              <a:srgbClr val="938b9c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05c64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Oval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Oval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Ov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b5a359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9666e"/>
                </a:solidFill>
                <a:latin typeface="Showcard Gothic"/>
              </a:rPr>
              <a:t>Click to edit the title text format</a:t>
            </a:r>
            <a:endParaRPr b="0" lang="en-US" sz="43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639720" indent="-236520">
              <a:spcBef>
                <a:spcPts val="601"/>
              </a:spcBef>
              <a:buClr>
                <a:srgbClr val="ceb96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2" marL="885960" indent="-228600">
              <a:spcBef>
                <a:spcPts val="601"/>
              </a:spcBef>
              <a:buClr>
                <a:srgbClr val="9cb08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3" marL="1096920" indent="-173160">
              <a:spcBef>
                <a:spcPts val="601"/>
              </a:spcBef>
              <a:buClr>
                <a:srgbClr val="6bb1c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4" marL="1297080" indent="-182520">
              <a:spcBef>
                <a:spcPts val="601"/>
              </a:spcBef>
              <a:buClr>
                <a:srgbClr val="6585c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3889f"/>
                </a:solidFill>
                <a:latin typeface="Arial Rounded MT Bol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3889f"/>
                </a:solidFill>
                <a:latin typeface="Arial Rounded MT Bol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3889f"/>
                </a:solidFill>
                <a:latin typeface="Arial Rounded MT Bol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686A0-DFE1-47DB-AB8F-2B60BA87B4CA}" type="slidenum">
              <a:rPr b="0" lang="en-US" sz="1200" spc="-1" strike="noStrike">
                <a:solidFill>
                  <a:srgbClr val="93889f"/>
                </a:solidFill>
                <a:latin typeface="Arial Rounded MT Bol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05c64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Oval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Oval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Oval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b5a359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9666e"/>
                </a:solidFill>
                <a:latin typeface="Showcard Gothic"/>
              </a:rPr>
              <a:t>Click to edit the title text format</a:t>
            </a:r>
            <a:endParaRPr b="0" lang="en-US" sz="43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639720" indent="-236520">
              <a:spcBef>
                <a:spcPts val="601"/>
              </a:spcBef>
              <a:buClr>
                <a:srgbClr val="ceb96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2" marL="885960" indent="-228600">
              <a:spcBef>
                <a:spcPts val="601"/>
              </a:spcBef>
              <a:buClr>
                <a:srgbClr val="9cb08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3" marL="1096920" indent="-173160">
              <a:spcBef>
                <a:spcPts val="601"/>
              </a:spcBef>
              <a:buClr>
                <a:srgbClr val="6bb1c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4" marL="1297080" indent="-182520">
              <a:spcBef>
                <a:spcPts val="601"/>
              </a:spcBef>
              <a:buClr>
                <a:srgbClr val="6585c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3889f"/>
                </a:solidFill>
                <a:latin typeface="Arial Rounded MT Bol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3889f"/>
                </a:solidFill>
                <a:latin typeface="Arial Rounded MT Bol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3889f"/>
                </a:solidFill>
                <a:latin typeface="Arial Rounded MT Bol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EDCD0-2FEB-496A-BF19-4664941554D2}" type="slidenum">
              <a:rPr b="0" lang="en-US" sz="1200" spc="-1" strike="noStrike">
                <a:solidFill>
                  <a:srgbClr val="93889f"/>
                </a:solidFill>
                <a:latin typeface="Arial Rounded MT Bol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9666e"/>
                </a:solidFill>
                <a:latin typeface="Showcard Gothic"/>
              </a:rPr>
              <a:t>Click to edit the title text format</a:t>
            </a:r>
            <a:endParaRPr b="0" lang="en-US" sz="43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639720" indent="-236520">
              <a:spcBef>
                <a:spcPts val="601"/>
              </a:spcBef>
              <a:buClr>
                <a:srgbClr val="ceb96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2" marL="885960" indent="-228600">
              <a:spcBef>
                <a:spcPts val="601"/>
              </a:spcBef>
              <a:buClr>
                <a:srgbClr val="9cb08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3" marL="1096920" indent="-173160">
              <a:spcBef>
                <a:spcPts val="601"/>
              </a:spcBef>
              <a:buClr>
                <a:srgbClr val="6bb1c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4" marL="1297080" indent="-182520">
              <a:spcBef>
                <a:spcPts val="601"/>
              </a:spcBef>
              <a:buClr>
                <a:srgbClr val="6585c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3889f"/>
                </a:solidFill>
                <a:latin typeface="Arial Rounded MT Bol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3889f"/>
                </a:solidFill>
                <a:latin typeface="Arial Rounded MT Bol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3889f"/>
                </a:solidFill>
                <a:latin typeface="Arial Rounded MT Bol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C4D0F-635F-46A1-94DD-17A01E0BC7E4}" type="slidenum">
              <a:rPr b="0" lang="en-US" sz="1200" spc="-1" strike="noStrike">
                <a:solidFill>
                  <a:srgbClr val="93889f"/>
                </a:solidFill>
                <a:latin typeface="Arial Rounded MT Bol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05c64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9666e"/>
                </a:solidFill>
                <a:latin typeface="Showcard Gothic"/>
              </a:rPr>
              <a:t>Click to edit the title text format</a:t>
            </a:r>
            <a:endParaRPr b="0" lang="en-US" sz="43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639720" indent="-236520">
              <a:spcBef>
                <a:spcPts val="601"/>
              </a:spcBef>
              <a:buClr>
                <a:srgbClr val="ceb96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2" marL="885960" indent="-228600">
              <a:spcBef>
                <a:spcPts val="601"/>
              </a:spcBef>
              <a:buClr>
                <a:srgbClr val="9cb08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3" marL="1096920" indent="-173160">
              <a:spcBef>
                <a:spcPts val="601"/>
              </a:spcBef>
              <a:buClr>
                <a:srgbClr val="6bb1c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4" marL="1297080" indent="-182520">
              <a:spcBef>
                <a:spcPts val="601"/>
              </a:spcBef>
              <a:buClr>
                <a:srgbClr val="6585c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3889f"/>
                </a:solidFill>
                <a:latin typeface="Arial Rounded MT Bol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3889f"/>
                </a:solidFill>
                <a:latin typeface="Arial Rounded MT Bol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3889f"/>
                </a:solidFill>
                <a:latin typeface="Arial Rounded MT Bol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E1DA7-1186-4209-B84D-1A1A3660E4F5}" type="slidenum">
              <a:rPr b="0" lang="en-US" sz="1200" spc="-1" strike="noStrike">
                <a:solidFill>
                  <a:srgbClr val="93889f"/>
                </a:solidFill>
                <a:latin typeface="Arial Rounded MT Bol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9666e"/>
                </a:solidFill>
                <a:latin typeface="Showcard Gothic"/>
              </a:rPr>
              <a:t>Click to edit the title text format</a:t>
            </a:r>
            <a:endParaRPr b="0" lang="en-US" sz="43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639720" indent="-236520">
              <a:spcBef>
                <a:spcPts val="601"/>
              </a:spcBef>
              <a:buClr>
                <a:srgbClr val="ceb96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2" marL="885960" indent="-228600">
              <a:spcBef>
                <a:spcPts val="601"/>
              </a:spcBef>
              <a:buClr>
                <a:srgbClr val="9cb08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3" marL="1096920" indent="-173160">
              <a:spcBef>
                <a:spcPts val="601"/>
              </a:spcBef>
              <a:buClr>
                <a:srgbClr val="6bb1c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4" marL="1297080" indent="-182520">
              <a:spcBef>
                <a:spcPts val="601"/>
              </a:spcBef>
              <a:buClr>
                <a:srgbClr val="6585c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3889f"/>
                </a:solidFill>
                <a:latin typeface="Arial Rounded MT Bol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3889f"/>
                </a:solidFill>
                <a:latin typeface="Arial Rounded MT Bol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3889f"/>
                </a:solidFill>
                <a:latin typeface="Arial Rounded MT Bol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C1F27-2A6D-47C5-9066-BBD897B4A998}" type="slidenum">
              <a:rPr b="0" lang="en-US" sz="1200" spc="-1" strike="noStrike">
                <a:solidFill>
                  <a:srgbClr val="93889f"/>
                </a:solidFill>
                <a:latin typeface="Arial Rounded MT Bol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Rectangle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Rectangle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Flowchart: Proces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bfb2cf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Flowchart: Proces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c9c2d1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9666e"/>
                </a:solidFill>
                <a:latin typeface="Showcard Gothic"/>
              </a:rPr>
              <a:t>Click to edit the title text format</a:t>
            </a:r>
            <a:endParaRPr b="0" lang="en-US" sz="43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639720" indent="-236520">
              <a:spcBef>
                <a:spcPts val="601"/>
              </a:spcBef>
              <a:buClr>
                <a:srgbClr val="ceb96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2" marL="885960" indent="-228600">
              <a:spcBef>
                <a:spcPts val="601"/>
              </a:spcBef>
              <a:buClr>
                <a:srgbClr val="9cb08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3" marL="1096920" indent="-173160">
              <a:spcBef>
                <a:spcPts val="601"/>
              </a:spcBef>
              <a:buClr>
                <a:srgbClr val="6bb1c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4" marL="1297080" indent="-182520">
              <a:spcBef>
                <a:spcPts val="601"/>
              </a:spcBef>
              <a:buClr>
                <a:srgbClr val="6585c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3889f"/>
                </a:solidFill>
                <a:latin typeface="Arial Rounded MT Bol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3889f"/>
                </a:solidFill>
                <a:latin typeface="Arial Rounded MT Bol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3889f"/>
                </a:solidFill>
                <a:latin typeface="Arial Rounded MT Bol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C2C45-E38F-48A4-971B-1D2096D7379D}" type="slidenum">
              <a:rPr b="0" lang="en-US" sz="1200" spc="-1" strike="noStrike">
                <a:solidFill>
                  <a:srgbClr val="93889f"/>
                </a:solidFill>
                <a:latin typeface="Arial Rounded MT Bol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cnweb.cn.edu/kwheeler/tropes.html" TargetMode="External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9666e"/>
                </a:solidFill>
                <a:latin typeface="Showcard Gothic"/>
              </a:rPr>
              <a:t>Literary Devices</a:t>
            </a:r>
            <a:endParaRPr b="0" lang="en-US" sz="43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431720" y="1848960"/>
            <a:ext cx="7407000" cy="17528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a383d"/>
                </a:solidFill>
                <a:latin typeface="Arial Rounded MT Bold"/>
              </a:rPr>
              <a:t>Try one of these with poetry, prose, or drama!</a:t>
            </a:r>
            <a:endParaRPr b="0" lang="en-US" sz="26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5160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69666e"/>
                </a:solidFill>
                <a:latin typeface="Showcard Gothic"/>
              </a:rPr>
              <a:t>Paradox</a:t>
            </a:r>
            <a:endParaRPr b="0" lang="en-US" sz="45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328320"/>
            <a:ext cx="4022640" cy="639720"/>
          </a:xfrm>
          <a:prstGeom prst="rect">
            <a:avLst/>
          </a:prstGeom>
          <a:solidFill>
            <a:srgbClr val="ffffff"/>
          </a:solidFill>
          <a:ln w="10800">
            <a:solidFill>
              <a:srgbClr val="ffffff"/>
            </a:solidFill>
            <a:miter/>
          </a:ln>
        </p:spPr>
        <p:txBody>
          <a:bodyPr anchor="ctr">
            <a:normAutofit/>
          </a:bodyPr>
          <a:p>
            <a:pPr marL="6336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 Rounded MT Bold"/>
              </a:rPr>
              <a:t>Definition</a:t>
            </a:r>
            <a:endParaRPr b="0" lang="en-US" sz="19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64160" y="328320"/>
            <a:ext cx="4022640" cy="639720"/>
          </a:xfrm>
          <a:prstGeom prst="rect">
            <a:avLst/>
          </a:prstGeom>
          <a:solidFill>
            <a:srgbClr val="ffffff"/>
          </a:solidFill>
          <a:ln w="10800">
            <a:solidFill>
              <a:srgbClr val="ffffff"/>
            </a:solidFill>
            <a:miter/>
          </a:ln>
        </p:spPr>
        <p:txBody>
          <a:bodyPr anchor="ctr">
            <a:normAutofit/>
          </a:bodyPr>
          <a:p>
            <a:pPr marL="6336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 Rounded MT Bold"/>
              </a:rPr>
              <a:t>Example</a:t>
            </a:r>
            <a:endParaRPr b="0" lang="en-US" sz="19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457200" y="969840"/>
            <a:ext cx="4022640" cy="4114800"/>
          </a:xfrm>
          <a:prstGeom prst="rect">
            <a:avLst/>
          </a:prstGeom>
          <a:noFill/>
          <a:ln w="10800">
            <a:solidFill>
              <a:srgbClr val="ffffff"/>
            </a:solidFill>
            <a:prstDash val="dash"/>
            <a:miter/>
          </a:ln>
        </p:spPr>
        <p:txBody>
          <a:bodyPr anchor="t">
            <a:normAutofit/>
          </a:bodyPr>
          <a:p>
            <a:pPr marL="392040" indent="-272880">
              <a:spcBef>
                <a:spcPts val="700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Using contradiction in a manner that oddly makes sense on a deeper level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4664160" y="969840"/>
            <a:ext cx="4022640" cy="4114800"/>
          </a:xfrm>
          <a:prstGeom prst="rect">
            <a:avLst/>
          </a:prstGeom>
          <a:noFill/>
          <a:ln w="10800">
            <a:solidFill>
              <a:srgbClr val="ffffff"/>
            </a:solidFill>
            <a:prstDash val="dash"/>
            <a:miter/>
          </a:ln>
        </p:spPr>
        <p:txBody>
          <a:bodyPr anchor="t">
            <a:normAutofit/>
          </a:bodyPr>
          <a:p>
            <a:pPr marL="392040" indent="-272880">
              <a:spcBef>
                <a:spcPts val="700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Without laws, we can have no freedom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marL="392040" indent="-272880">
              <a:spcBef>
                <a:spcPts val="700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And all men kill the thing they love ~Oscar Wilde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marL="392040" indent="-272880">
              <a:spcBef>
                <a:spcPts val="700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Cowards die many times before their deaths (Julius Caesar)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5160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69666e"/>
                </a:solidFill>
                <a:latin typeface="Showcard Gothic"/>
              </a:rPr>
              <a:t>Personification</a:t>
            </a:r>
            <a:endParaRPr b="0" lang="en-US" sz="45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328320"/>
            <a:ext cx="4022640" cy="639720"/>
          </a:xfrm>
          <a:prstGeom prst="rect">
            <a:avLst/>
          </a:prstGeom>
          <a:solidFill>
            <a:srgbClr val="ffffff"/>
          </a:solidFill>
          <a:ln w="10800">
            <a:solidFill>
              <a:srgbClr val="ffffff"/>
            </a:solidFill>
            <a:miter/>
          </a:ln>
        </p:spPr>
        <p:txBody>
          <a:bodyPr anchor="ctr">
            <a:normAutofit/>
          </a:bodyPr>
          <a:p>
            <a:pPr marL="6336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 Rounded MT Bold"/>
              </a:rPr>
              <a:t>Definition</a:t>
            </a:r>
            <a:endParaRPr b="0" lang="en-US" sz="19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64160" y="328320"/>
            <a:ext cx="4022640" cy="639720"/>
          </a:xfrm>
          <a:prstGeom prst="rect">
            <a:avLst/>
          </a:prstGeom>
          <a:solidFill>
            <a:srgbClr val="ffffff"/>
          </a:solidFill>
          <a:ln w="10800">
            <a:solidFill>
              <a:srgbClr val="ffffff"/>
            </a:solidFill>
            <a:miter/>
          </a:ln>
        </p:spPr>
        <p:txBody>
          <a:bodyPr anchor="ctr">
            <a:normAutofit/>
          </a:bodyPr>
          <a:p>
            <a:pPr marL="6336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 Rounded MT Bold"/>
              </a:rPr>
              <a:t>Example</a:t>
            </a:r>
            <a:endParaRPr b="0" lang="en-US" sz="19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457200" y="969840"/>
            <a:ext cx="4022640" cy="4114800"/>
          </a:xfrm>
          <a:prstGeom prst="rect">
            <a:avLst/>
          </a:prstGeom>
          <a:noFill/>
          <a:ln w="10800">
            <a:solidFill>
              <a:srgbClr val="ffffff"/>
            </a:solidFill>
            <a:prstDash val="dash"/>
            <a:miter/>
          </a:ln>
        </p:spPr>
        <p:txBody>
          <a:bodyPr anchor="t">
            <a:normAutofit/>
          </a:bodyPr>
          <a:p>
            <a:pPr marL="392040" indent="-272880">
              <a:spcBef>
                <a:spcPts val="700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A </a:t>
            </a:r>
            <a:r>
              <a:rPr b="0" lang="en-US" sz="2400" spc="-1" strike="noStrike" u="sng">
                <a:solidFill>
                  <a:srgbClr val="410082"/>
                </a:solidFill>
                <a:uFillTx/>
                <a:latin typeface="Arial Rounded MT Bold"/>
                <a:hlinkClick r:id="rId1"/>
              </a:rPr>
              <a:t>trope</a:t>
            </a: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 in which abstractions, animals, ideas, and inanimate objects are given human character, traits, abilities, or reactions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4664160" y="969840"/>
            <a:ext cx="4022640" cy="4114800"/>
          </a:xfrm>
          <a:prstGeom prst="rect">
            <a:avLst/>
          </a:prstGeom>
          <a:noFill/>
          <a:ln w="10800">
            <a:solidFill>
              <a:srgbClr val="ffffff"/>
            </a:solidFill>
            <a:prstDash val="dash"/>
            <a:miter/>
          </a:ln>
        </p:spPr>
        <p:txBody>
          <a:bodyPr anchor="t">
            <a:normAutofit/>
          </a:bodyPr>
          <a:p>
            <a:pPr marL="392040" indent="-272880">
              <a:spcBef>
                <a:spcPts val="700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Sylvia Plath's "The Moon and the Yew Tree," in which the moon "is a face in its own right, / White as a knuckle and terribly upset. / It drags the sea after it like a dark crime."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5160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69666e"/>
                </a:solidFill>
                <a:latin typeface="Showcard Gothic"/>
              </a:rPr>
              <a:t>pOLYSYNDETON</a:t>
            </a:r>
            <a:br>
              <a:rPr sz="4100"/>
            </a:br>
            <a:r>
              <a:rPr b="1" lang="en-US" sz="4100" spc="-1" strike="noStrike">
                <a:solidFill>
                  <a:srgbClr val="69666e"/>
                </a:solidFill>
                <a:latin typeface="Showcard Gothic"/>
              </a:rPr>
              <a:t>(pah-lee-sin-duh-tuhn)</a:t>
            </a:r>
            <a:endParaRPr b="0" lang="en-US" sz="41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328320"/>
            <a:ext cx="4022640" cy="639720"/>
          </a:xfrm>
          <a:prstGeom prst="rect">
            <a:avLst/>
          </a:prstGeom>
          <a:solidFill>
            <a:srgbClr val="ffffff"/>
          </a:solidFill>
          <a:ln w="10800">
            <a:solidFill>
              <a:srgbClr val="ffffff"/>
            </a:solidFill>
            <a:miter/>
          </a:ln>
        </p:spPr>
        <p:txBody>
          <a:bodyPr anchor="ctr">
            <a:normAutofit/>
          </a:bodyPr>
          <a:p>
            <a:pPr marL="6336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 Rounded MT Bold"/>
              </a:rPr>
              <a:t>Definition</a:t>
            </a:r>
            <a:endParaRPr b="0" lang="en-US" sz="19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64160" y="328320"/>
            <a:ext cx="4022640" cy="639720"/>
          </a:xfrm>
          <a:prstGeom prst="rect">
            <a:avLst/>
          </a:prstGeom>
          <a:solidFill>
            <a:srgbClr val="ffffff"/>
          </a:solidFill>
          <a:ln w="10800">
            <a:solidFill>
              <a:srgbClr val="ffffff"/>
            </a:solidFill>
            <a:miter/>
          </a:ln>
        </p:spPr>
        <p:txBody>
          <a:bodyPr anchor="ctr">
            <a:normAutofit/>
          </a:bodyPr>
          <a:p>
            <a:pPr marL="6336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 Rounded MT Bold"/>
              </a:rPr>
              <a:t>Example</a:t>
            </a:r>
            <a:endParaRPr b="0" lang="en-US" sz="19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457200" y="969840"/>
            <a:ext cx="4022640" cy="4114800"/>
          </a:xfrm>
          <a:prstGeom prst="rect">
            <a:avLst/>
          </a:prstGeom>
          <a:noFill/>
          <a:ln w="10800">
            <a:solidFill>
              <a:srgbClr val="ffffff"/>
            </a:solidFill>
            <a:prstDash val="dash"/>
            <a:miter/>
          </a:ln>
        </p:spPr>
        <p:txBody>
          <a:bodyPr anchor="t">
            <a:normAutofit/>
          </a:bodyPr>
          <a:p>
            <a:pPr marL="392040" indent="-272880">
              <a:spcBef>
                <a:spcPts val="700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Using many conjunctions to achieve an overwhelming effect in a sentence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marL="392040" indent="-272880">
              <a:spcBef>
                <a:spcPts val="700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marL="392040" indent="-272880">
              <a:spcBef>
                <a:spcPts val="700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Conjunction: FANBOYS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marL="392040" indent="-272880">
              <a:spcBef>
                <a:spcPts val="700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For, and, nor, but, or, yet, so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4664160" y="969840"/>
            <a:ext cx="4022640" cy="4114800"/>
          </a:xfrm>
          <a:prstGeom prst="rect">
            <a:avLst/>
          </a:prstGeom>
          <a:noFill/>
          <a:ln w="10800">
            <a:solidFill>
              <a:srgbClr val="ffffff"/>
            </a:solidFill>
            <a:prstDash val="dash"/>
            <a:miter/>
          </a:ln>
        </p:spPr>
        <p:txBody>
          <a:bodyPr anchor="t">
            <a:normAutofit/>
          </a:bodyPr>
          <a:p>
            <a:pPr marL="392040" indent="-272880">
              <a:lnSpc>
                <a:spcPct val="90000"/>
              </a:lnSpc>
              <a:spcBef>
                <a:spcPts val="700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"This term, I am taking biology and English and history and math and music and physics and sociology." All those </a:t>
            </a:r>
            <a:r>
              <a:rPr b="0" i="1" lang="en-US" sz="2400" spc="-1" strike="noStrike">
                <a:solidFill>
                  <a:srgbClr val="000000"/>
                </a:solidFill>
                <a:latin typeface="Arial Rounded MT Bold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s make the student sound like she is completely overwhelmed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 Rounded MT Bold"/>
              </a:rPr>
              <a:t>Try replacing t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 Rounded MT Bold"/>
              </a:rPr>
              <a:t>and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 Rounded MT Bold"/>
              </a:rPr>
              <a:t>s with commas… see how the pace and tone change</a:t>
            </a: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5160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69666e"/>
                </a:solidFill>
                <a:latin typeface="Showcard Gothic"/>
              </a:rPr>
              <a:t>Hyperbole</a:t>
            </a:r>
            <a:endParaRPr b="0" lang="en-US" sz="45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328320"/>
            <a:ext cx="4022640" cy="639720"/>
          </a:xfrm>
          <a:prstGeom prst="rect">
            <a:avLst/>
          </a:prstGeom>
          <a:solidFill>
            <a:srgbClr val="ffffff"/>
          </a:solidFill>
          <a:ln w="10800">
            <a:solidFill>
              <a:srgbClr val="ffffff"/>
            </a:solidFill>
            <a:miter/>
          </a:ln>
        </p:spPr>
        <p:txBody>
          <a:bodyPr anchor="ctr">
            <a:normAutofit/>
          </a:bodyPr>
          <a:p>
            <a:pPr marL="6336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 Rounded MT Bold"/>
              </a:rPr>
              <a:t>Definition</a:t>
            </a:r>
            <a:endParaRPr b="0" lang="en-US" sz="19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64160" y="328320"/>
            <a:ext cx="4022640" cy="639720"/>
          </a:xfrm>
          <a:prstGeom prst="rect">
            <a:avLst/>
          </a:prstGeom>
          <a:solidFill>
            <a:srgbClr val="ffffff"/>
          </a:solidFill>
          <a:ln w="10800">
            <a:solidFill>
              <a:srgbClr val="ffffff"/>
            </a:solidFill>
            <a:miter/>
          </a:ln>
        </p:spPr>
        <p:txBody>
          <a:bodyPr anchor="ctr">
            <a:normAutofit/>
          </a:bodyPr>
          <a:p>
            <a:pPr marL="6336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 Rounded MT Bold"/>
              </a:rPr>
              <a:t>Example</a:t>
            </a:r>
            <a:endParaRPr b="0" lang="en-US" sz="19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457200" y="969840"/>
            <a:ext cx="4022640" cy="4114800"/>
          </a:xfrm>
          <a:prstGeom prst="rect">
            <a:avLst/>
          </a:prstGeom>
          <a:noFill/>
          <a:ln w="10800">
            <a:solidFill>
              <a:srgbClr val="ffffff"/>
            </a:solidFill>
            <a:prstDash val="dash"/>
            <a:miter/>
          </a:ln>
        </p:spPr>
        <p:txBody>
          <a:bodyPr anchor="t">
            <a:normAutofit/>
          </a:bodyPr>
          <a:p>
            <a:pPr marL="392040" indent="-272880">
              <a:spcBef>
                <a:spcPts val="700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the trope of exaggeration or overstatement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4664160" y="969840"/>
            <a:ext cx="4022640" cy="4114800"/>
          </a:xfrm>
          <a:prstGeom prst="rect">
            <a:avLst/>
          </a:prstGeom>
          <a:noFill/>
          <a:ln w="10800">
            <a:solidFill>
              <a:srgbClr val="ffffff"/>
            </a:solidFill>
            <a:prstDash val="dash"/>
            <a:miter/>
          </a:ln>
        </p:spPr>
        <p:txBody>
          <a:bodyPr anchor="t">
            <a:normAutofit/>
          </a:bodyPr>
          <a:p>
            <a:pPr marL="392040" indent="-272880">
              <a:spcBef>
                <a:spcPts val="700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"His thundering shout could split rocks.“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marL="392040" indent="-272880">
              <a:spcBef>
                <a:spcPts val="700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"Yo mama's so fat. . . ."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5486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69666e"/>
                </a:solidFill>
                <a:latin typeface="Showcard Gothic"/>
              </a:rPr>
              <a:t>Vegetationsdamon</a:t>
            </a:r>
            <a:endParaRPr b="0" lang="en-US" sz="45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328320"/>
            <a:ext cx="4022640" cy="639720"/>
          </a:xfrm>
          <a:prstGeom prst="rect">
            <a:avLst/>
          </a:prstGeom>
          <a:solidFill>
            <a:srgbClr val="ffffff"/>
          </a:solidFill>
          <a:ln w="10800">
            <a:solidFill>
              <a:srgbClr val="ffffff"/>
            </a:solidFill>
            <a:miter/>
          </a:ln>
        </p:spPr>
        <p:txBody>
          <a:bodyPr anchor="ctr">
            <a:normAutofit/>
          </a:bodyPr>
          <a:p>
            <a:pPr marL="6336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 Rounded MT Bold"/>
              </a:rPr>
              <a:t>Definition</a:t>
            </a:r>
            <a:endParaRPr b="0" lang="en-US" sz="19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64160" y="328320"/>
            <a:ext cx="4022640" cy="639720"/>
          </a:xfrm>
          <a:prstGeom prst="rect">
            <a:avLst/>
          </a:prstGeom>
          <a:solidFill>
            <a:srgbClr val="ffffff"/>
          </a:solidFill>
          <a:ln w="10800">
            <a:solidFill>
              <a:srgbClr val="ffffff"/>
            </a:solidFill>
            <a:miter/>
          </a:ln>
        </p:spPr>
        <p:txBody>
          <a:bodyPr anchor="ctr">
            <a:normAutofit/>
          </a:bodyPr>
          <a:p>
            <a:pPr marL="6336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 Rounded MT Bold"/>
              </a:rPr>
              <a:t>Example</a:t>
            </a:r>
            <a:endParaRPr b="0" lang="en-US" sz="19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457200" y="969840"/>
            <a:ext cx="4022640" cy="4592880"/>
          </a:xfrm>
          <a:prstGeom prst="rect">
            <a:avLst/>
          </a:prstGeom>
          <a:noFill/>
          <a:ln w="10800">
            <a:solidFill>
              <a:srgbClr val="ffffff"/>
            </a:solidFill>
            <a:prstDash val="dash"/>
            <a:miter/>
          </a:ln>
        </p:spPr>
        <p:txBody>
          <a:bodyPr anchor="t">
            <a:normAutofit/>
          </a:bodyPr>
          <a:p>
            <a:pPr marL="392040" indent="-272880">
              <a:lnSpc>
                <a:spcPct val="80000"/>
              </a:lnSpc>
              <a:spcBef>
                <a:spcPts val="700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 Rounded MT Bold"/>
              </a:rPr>
              <a:t>A deity or spirit that represents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 (or is directly equivalent to)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 Rounded MT Bold"/>
              </a:rPr>
              <a:t>the vitality of domestic crops and/or native vegetation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.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 Rounded MT Bold"/>
              </a:rPr>
              <a:t>This spirit would 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(in enacted ritual, in sacrifice, or in mythological narratives)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 Rounded MT Bold"/>
              </a:rPr>
              <a:t>grow and mature as the crops would grow and mature, but when the crops would be harvested, or when the seasons would change with autumn, the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 Rounded MT Bold"/>
              </a:rPr>
              <a:t>vegetationsdämon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 Rounded MT Bold"/>
              </a:rPr>
              <a:t> would either wither in death or would be struck down and killed in the harvest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4664160" y="969840"/>
            <a:ext cx="4022640" cy="4592880"/>
          </a:xfrm>
          <a:prstGeom prst="rect">
            <a:avLst/>
          </a:prstGeom>
          <a:noFill/>
          <a:ln w="10800">
            <a:solidFill>
              <a:srgbClr val="ffffff"/>
            </a:solidFill>
            <a:prstDash val="dash"/>
            <a:miter/>
          </a:ln>
        </p:spPr>
        <p:txBody>
          <a:bodyPr anchor="t">
            <a:normAutofit/>
          </a:bodyPr>
          <a:p>
            <a:pPr marL="392040" indent="-272880">
              <a:lnSpc>
                <a:spcPct val="90000"/>
              </a:lnSpc>
              <a:spcBef>
                <a:spcPts val="700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Rounded MT Bold"/>
              </a:rPr>
              <a:t>I.e.</a:t>
            </a:r>
            <a:r>
              <a:rPr b="0" lang="en-US" sz="2200" spc="-1" strike="noStrike">
                <a:solidFill>
                  <a:srgbClr val="000000"/>
                </a:solidFill>
                <a:latin typeface="Arial Rounded MT Bold"/>
              </a:rPr>
              <a:t>: the </a:t>
            </a:r>
            <a:r>
              <a:rPr b="0" i="1" lang="en-US" sz="2200" spc="-1" strike="noStrike">
                <a:solidFill>
                  <a:srgbClr val="000000"/>
                </a:solidFill>
                <a:latin typeface="Arial Rounded MT Bold"/>
              </a:rPr>
              <a:t>vegetationsdämon</a:t>
            </a:r>
            <a:r>
              <a:rPr b="0" lang="en-US" sz="2200" spc="-1" strike="noStrike">
                <a:solidFill>
                  <a:srgbClr val="000000"/>
                </a:solidFill>
                <a:latin typeface="Arial Rounded MT Bold"/>
              </a:rPr>
              <a:t> is synonymous to a nature spirit.</a:t>
            </a: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  <a:p>
            <a:pPr marL="392040" indent="-272880">
              <a:lnSpc>
                <a:spcPct val="90000"/>
              </a:lnSpc>
              <a:spcBef>
                <a:spcPts val="700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Rounded MT Bold"/>
              </a:rPr>
              <a:t>Depending upon the mythic version, either the </a:t>
            </a:r>
            <a:r>
              <a:rPr b="0" i="1" lang="en-US" sz="2200" spc="-1" strike="noStrike">
                <a:solidFill>
                  <a:srgbClr val="000000"/>
                </a:solidFill>
                <a:latin typeface="Arial Rounded MT Bold"/>
              </a:rPr>
              <a:t>vegetationsdämon</a:t>
            </a:r>
            <a:r>
              <a:rPr b="0" lang="en-US" sz="2200" spc="-1" strike="noStrike">
                <a:solidFill>
                  <a:srgbClr val="000000"/>
                </a:solidFill>
                <a:latin typeface="Arial Rounded MT Bold"/>
              </a:rPr>
              <a:t> would be replaced by a new spirit with the new season, or the dead spirit would spontaneously resurrect and appear in the new season in young and vital form again.</a:t>
            </a: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9666e"/>
                </a:solidFill>
                <a:latin typeface="Showcard Gothic"/>
              </a:rPr>
              <a:t>TRY IT ON YOUR OWN</a:t>
            </a:r>
            <a:endParaRPr b="0" lang="en-US" sz="43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Working with a partner, write a short piece (one or two paragraphs, one or two stanzas) using one of the techniques.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9T18:50:00Z</dcterms:created>
  <dc:creator>Gottner-Grant, Deborah</dc:creator>
  <dc:description/>
  <dc:language>en-US</dc:language>
  <cp:lastModifiedBy>Gottner-Grant, Deborah</cp:lastModifiedBy>
  <dcterms:modified xsi:type="dcterms:W3CDTF">2010-08-31T15:32:58Z</dcterms:modified>
  <cp:revision>17</cp:revision>
  <dc:subject/>
  <dc:title>Literary Devices</dc:title>
</cp:coreProperties>
</file>