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725-ED0E-4B17-B6E2-757C45D9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0527-4F7F-400A-98AD-9BF2DB6F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50D-1A28-4D33-8070-432BE491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F049-62B3-4E5B-8E26-2BCE2443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3264-5AF4-4EF8-AFCB-51AED153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C682-45B8-4051-95F6-4EBBE826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9AB0-3E39-4EA6-B03A-E2018EB7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B35B-44BF-4EAC-95BB-2DFACDA3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025A-923F-434F-AAAA-0A8E3E05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F6CD-E526-44CB-BC8D-CACCE90A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0DE7-DA89-4313-99EC-9F60CAA0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179-0166-4669-870F-F3E5AB3B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594D-3E82-4693-98E6-65B4CAA2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9176-1DF4-425C-BF5A-D897E852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5F42-595E-467C-A251-2CF6F00A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D9B4-7E15-4945-9B64-5BC36BEC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1C64-33BE-4EB9-BF17-182646AF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DF7CE-EFFA-4399-8A6D-01EFD126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BD997-336C-4EAA-B80E-D6188163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A7C85-2340-4B2D-B42A-980C1168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99146-74F5-49CA-AB10-6787BDD1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4810B-A65E-4BFA-BD2E-F88059AA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E8C-78C8-4C54-AD1F-09F3BB2E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C72DE-0BF9-4F36-8244-380C9183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C0FE2-AFE2-48FA-9BB0-D66A8904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0397D-E2A1-420C-891B-410AD818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4C63B-137C-441B-93F2-40BA0629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2133E-38B4-408B-9161-083695CC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0A798-76CF-44AC-A4F8-D679827D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9E461-7E39-4E46-B5F9-316B338B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89501-E6CF-4102-88B4-5F52AD26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B9ADF-610A-4F03-B081-1295D01D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CEBEE-661E-4150-AB58-CAA7BE9E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E6D-11BA-4CF5-A8D3-CB6E3B0F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9E866-3907-4DCD-8919-570D53A6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AC4FF-7DF4-4492-B7B2-9AC3A405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B3D16-018E-46A9-A987-DC069F14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4277A-0412-4411-AE70-712D5E68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D8BCA-648C-4A25-A79E-EEF8097F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AEFC7-A16A-4213-96BD-E10AB93E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A3C61-8587-4DF8-B83F-78A01C36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222C9-E272-41B5-B779-C478EACD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00726-7719-4350-9E9D-2714F72F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0055C-CC40-4B4F-9614-175B13B5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D696-F628-4395-A8FB-F4A01AA6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FB17E-20B7-4954-B5E8-5575D86B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A738C-62E1-43E9-A868-3E7E0A7E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0476C-9F09-46D9-BB92-26DF124E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C117A-79A7-44F1-9D6B-5F08C584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4209E-1E7E-45B7-990E-DEC10837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47540-2E19-4C11-98B3-AA6C8807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9AAF6-BDF9-4A05-B8D0-02928740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569E0-EC2F-4258-A339-A08D323D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0BB93-2331-4A48-A74F-99CD3B8A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B7CD5-8D8D-4BA3-8114-742B3B0F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B5CB-591F-4BDA-995B-E121CE8C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3B764-2DD9-45F6-A46D-BDBA4484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3D6D2-E57C-4155-A351-10679BC2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E37E3-6ED3-4C19-9539-60672045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07F23-59C3-42AF-8934-1FC19432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56C3D-B9C3-4566-9602-035B9514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E440A-26A4-45FB-AF64-016A3E0E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20826-117B-4083-A441-5974B2E5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3A45A-82A5-4E4B-91B1-6515EEDE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95292-863B-4174-9F27-89E95974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F061E-DD59-4EC5-A5D3-08DA7694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790A-EFC8-4E00-A2AB-A89686C4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ABDEA-75C0-4975-ABF9-C1F9632D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6AF04-A51F-4472-B247-BA8F5A9E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0E451-0E65-49D5-931E-5B7D31D8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12202-11A7-4186-8609-2CE90E6F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A887E-F90A-4D28-9ADC-21075055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9BB57-CD58-44E5-94ED-892BB807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015DE-ABE6-4B56-9BAA-C5D29686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5A21C-D8EE-4696-B5CB-C640CF58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73B42-F314-4869-9CD4-72566226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DDF23-4E93-4AA1-B1B7-BA52460C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AE59-B9CB-47F9-86B6-08E3FEE8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FB48F-F094-47C8-A2FF-9DFA0B5D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BEF36-4A21-4AA0-BBC1-AA1B9618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A501D-A8F4-49B8-8EE3-21EEE975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88B10-71CE-430C-A57F-A4D0F7CB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67DE0-A1E6-4745-B245-20CB2275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60D5-E821-4F0A-A192-E5EBF4B6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F997-467B-4E6D-BD49-26BFA5B6B589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CF50-6305-495A-B38F-897CDF442FA7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C42C-A81F-44EE-933C-88F8CD632FFC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3D35-9542-4DED-A29C-89AB66A99F2C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70E8-C3BE-4114-B5B8-678B1C95C3DE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14B5-F16D-4C26-8D26-E4CEB8C503E9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EFB4-0105-4377-81A8-216BEA0B4D19}" type="slidenum">
              <a:rPr b="0" lang="en-US" sz="1200" spc="-1" strike="noStrike">
                <a:solidFill>
                  <a:srgbClr val="93889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nweb.cn.edu/kwheeler/tropes.html" TargetMode="Externa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Literary Devices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383d"/>
                </a:solidFill>
                <a:latin typeface="Arial Rounded MT Bold"/>
              </a:rPr>
              <a:t>Try one of these with poetry, prose, or drama!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Paradox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sing contradiction in a manner that oddly makes sense on a deeper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Without laws, we can have no freedom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nd all men kill the thing they love ~Oscar Wild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wards die many times before their deaths (Julius Caesar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Personification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 </a:t>
            </a:r>
            <a:r>
              <a:rPr b="0" lang="en-US" sz="2400" spc="-1" strike="noStrike" u="sng">
                <a:solidFill>
                  <a:srgbClr val="410082"/>
                </a:solidFill>
                <a:uFillTx/>
                <a:latin typeface="Arial Rounded MT Bold"/>
                <a:hlinkClick r:id="rId1"/>
              </a:rPr>
              <a:t>trope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in which abstractions, animals, ideas, and inanimate objects are given human character, traits, abilities, or reaction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ylvia Plath's "The Moon and the Yew Tree," in which the moon "is a face in its own right, / White as a knuckle and terribly upset. / It drags the sea after it like a dark crime."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66e"/>
                </a:solidFill>
                <a:latin typeface="Showcard Gothic"/>
              </a:rPr>
              <a:t>pOLYSYNDETON</a:t>
            </a:r>
            <a:br>
              <a:rPr sz="4100"/>
            </a:br>
            <a:r>
              <a:rPr b="1" lang="en-US" sz="4100" spc="-1" strike="noStrike">
                <a:solidFill>
                  <a:srgbClr val="69666e"/>
                </a:solidFill>
                <a:latin typeface="Showcard Gothic"/>
              </a:rPr>
              <a:t>(pah-lee-sin-duh-tuhn)</a:t>
            </a:r>
            <a:endParaRPr b="0" lang="en-US" sz="41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sing many conjunctions to achieve an overwhelming effect in a sentenc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njunction: FANBOY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r, and, nor, but, or, yet, so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"This term, I am taking biology and English and history and math and music and physics and sociology." All those </a:t>
            </a:r>
            <a:r>
              <a:rPr b="0" i="1" lang="en-US" sz="2400" spc="-1" strike="noStrike">
                <a:solidFill>
                  <a:srgbClr val="000000"/>
                </a:solidFill>
                <a:latin typeface="Arial Rounded MT Bold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 make the student sound like she is completely overwhelmed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Try replacing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an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s with commas… see how the pace and tone change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Hyperbole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trope of exaggeration or overstatement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"His thundering shout could split rocks.“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"Yo mama's so fat. . . ."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69666e"/>
                </a:solidFill>
                <a:latin typeface="Showcard Gothic"/>
              </a:rPr>
              <a:t>Vegetationsdamon</a:t>
            </a:r>
            <a:endParaRPr b="0" lang="en-US" sz="45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Rounded MT Bold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969840"/>
            <a:ext cx="4022640" cy="459288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A deity or spirit that represent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(or is directly equivalent to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the vitality of domestic crops and/or native vegetatio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This spirit would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(in enacted ritual, in sacrifice, or in mythological narratives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grow and mature as the crops would grow and mature, but when the crops would be harvested, or when the seasons would change with autumn, th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vegetationsdäm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Rounded MT Bold"/>
              </a:rPr>
              <a:t> would either wither in death or would be struck down and killed in the harvest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64160" y="969840"/>
            <a:ext cx="4022640" cy="459288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Rounded MT Bold"/>
              </a:rPr>
              <a:t>I.e.</a:t>
            </a: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: the </a:t>
            </a:r>
            <a:r>
              <a:rPr b="0" i="1" lang="en-US" sz="2200" spc="-1" strike="noStrike">
                <a:solidFill>
                  <a:srgbClr val="000000"/>
                </a:solidFill>
                <a:latin typeface="Arial Rounded MT Bold"/>
              </a:rPr>
              <a:t>vegetationsdämon</a:t>
            </a: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 is synonymous to a nature spirit.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  <a:p>
            <a:pPr marL="392040" indent="-272880">
              <a:lnSpc>
                <a:spcPct val="90000"/>
              </a:lnSpc>
              <a:spcBef>
                <a:spcPts val="700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Depending upon the mythic version, either the </a:t>
            </a:r>
            <a:r>
              <a:rPr b="0" i="1" lang="en-US" sz="2200" spc="-1" strike="noStrike">
                <a:solidFill>
                  <a:srgbClr val="000000"/>
                </a:solidFill>
                <a:latin typeface="Arial Rounded MT Bold"/>
              </a:rPr>
              <a:t>vegetationsdämon</a:t>
            </a: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 would be replaced by a new spirit with the new season, or the dead spirit would spontaneously resurrect and appear in the new season in young and vital form again.</a:t>
            </a:r>
            <a:endParaRPr b="0" lang="en-US" sz="2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Showcard Gothic"/>
              </a:rPr>
              <a:t>TRY IT ON YOUR OWN</a:t>
            </a:r>
            <a:endParaRPr b="0" lang="en-US" sz="4300" spc="-1" strike="noStrike">
              <a:solidFill>
                <a:srgbClr val="69666e"/>
              </a:solidFill>
              <a:latin typeface="Showcard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orking with a partner, write a short piece (one or two paragraphs, one or two stanzas) using one of the techniques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50:00Z</dcterms:created>
  <dc:creator>Gottner-Grant, Deborah</dc:creator>
  <dc:description/>
  <dc:language>en-US</dc:language>
  <cp:lastModifiedBy>Gottner-Grant, Deborah</cp:lastModifiedBy>
  <dcterms:modified xsi:type="dcterms:W3CDTF">2010-08-31T15:32:58Z</dcterms:modified>
  <cp:revision>17</cp:revision>
  <dc:subject/>
  <dc:title>Literary Devices</dc:title>
</cp:coreProperties>
</file>