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A7D-739D-40EB-B395-3A76BCBA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F39-A40B-45AD-9297-5D8FDA13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83F-D1B0-45FA-A153-6AF956E7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833-94D3-485C-B517-84F185B6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A9AB-C389-4426-B683-07CF796F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7BAB-4A42-49BC-8DE0-6A9F0F8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72CC-151B-4106-BD5F-A724CCCD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24B-FE53-44A0-8A71-ABDFA57D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6353-FF3F-4821-A81A-C4DD93E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168A-4364-43BD-8CCA-813BE96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1C9-7A4F-4ED8-B2B5-EE4133A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35D-8B62-4590-A22A-CD356D5F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3575-864F-4523-BF86-9A7D162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FAB-4C16-4C76-926F-A0F7DE8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075-EDF8-47DB-B444-23E76C50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7336-4793-4D2F-A302-C150AFB6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DF39-1063-4FB3-961C-1A90935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6240-E55D-4CCD-BE17-2C258D9A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C444-2C04-45B3-98E5-7E3A040C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102A-A85B-4CE3-BA00-ED5F924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543F-350C-4F13-BAF5-EA681CE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D7EB-C847-48E9-BB26-DCBB68CA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C04-920A-4A4B-BDBB-E4C77A51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FAD5-1693-44FB-B6D0-CF3590A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AD64-2540-4F9E-ADF0-3F483C3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3C26-4126-4F5B-969A-A1B7432D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1F52-A5EE-4B67-8A26-D921078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3F0D-7A17-43DF-A7AA-8524401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8F20-D3BE-4ED8-9BF0-CF203933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1C2D-9AD9-4292-BB94-1EFCEED0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1562-1913-446A-85D4-C72BC587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5EC6-8948-4582-8D2F-4DD63E02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4AFB-5EA9-4F97-B59B-6671211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4C5-C5DA-4AC8-8A67-25981711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E8E0-B842-4B38-8FAB-2C0D68F3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C160-CC74-46B2-80B9-75689A87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73BA-8C43-413A-BB90-BB8B7748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192D-D05F-4989-BB1E-64890F3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048A-97C4-40C7-8782-6C59AF5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BC3E-2815-4A80-AFF9-B12B3D0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7E46-DC1C-4663-9BF9-1C33CA3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EA98-6B75-4428-BA46-833E1C29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0CB2-6849-4E48-BB93-7A0AAE37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20F1-8C71-4ED1-8970-335E7114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F3-2207-4ECA-AA6C-AEBD511A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D05E-8C77-4D81-8775-77897D05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0C8F-D58E-40E1-B886-9B351EA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9B59-46E3-4E49-84C2-8B67D30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757B-6134-4C77-B86A-62C6ABF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284D6-854D-4AB0-8500-D5DB6701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A43A-BD6C-4E68-B22F-EA902EF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5590-48FD-4E2A-8A3D-786A7E7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4CA0-4B3D-4731-A654-A7FC2A3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1995-305A-41F4-A490-8B16358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2AD8-6534-48F4-8D91-F9834FA3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211-BA37-4866-AAA1-06B2B2E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0C08-8E08-4DA0-9B54-B8959007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1BBCC-A7AB-449D-869C-361A7F20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1AD2-50C4-486C-9930-F3E972E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3DCD-CF4B-4F2C-B2CB-44765F71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10669-9C18-4C0D-AFE8-671A29AA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A4FE-6BD8-4B9B-A9D2-22AEA17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6BD5-9195-4525-B826-3C0C3747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E4DA-A17C-4296-91D1-8DD5EED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6B77-0C9B-4BAF-A243-AF00842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8697-93D8-4848-824D-BAC2551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DB5-FE89-46B3-BF10-9E833B7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F73C-589C-40A7-B10C-448DFF5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25FC2-835B-468C-B767-3A03CC4C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FC16-848E-4C53-851B-12C34346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6A44F-F78B-4671-B2C6-790AC882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B49D-EE77-4AE3-9BAD-20E69DA9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A9926-EA29-4DAE-A046-EBC0222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58894-8B81-4F78-82A4-AE97748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88B97-87BD-46F7-950F-770C9522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16E8-4899-4FCB-8CFD-F8FA9CC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EF75-9EEC-44C4-A21B-0C370AF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44C-407D-466F-A45C-F7E98AF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2237C-DB42-4862-8AB0-14AA333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0761-E3DF-4B8C-AA39-AD541F8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A17E-7594-479E-8483-43D344E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C994-0527-4B72-AD7B-86A21322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4FAD-7E6F-4B36-866F-4E6E50E4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968-4125-4838-9B6E-16475DB4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88B-F216-4771-8158-7A51C1F34635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23C8-6A6A-48FB-B794-B0F44733B0E8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B86-C469-48A5-8D1E-258C140FA02C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FA50-EEFB-4780-BF4F-B3E5728EF9E2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60CB-AA98-47D0-B64E-E7113EEA963E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FA6-9093-4076-BF03-9828169427FF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19EA-8CA0-4BB2-A955-42475098EEC1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nweb.cn.edu/kwheeler/tropes.html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Literary Devices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Arial Rounded MT Bold"/>
              </a:rPr>
              <a:t>Try one of these with poetry, prose, or drama!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aradox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contradiction in a manner that oddly makes sense on a deeper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thout laws, we can have no freedo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d all men kill the thing they love ~Oscar Wild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wards die many times before their deaths (Julius Caesar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ersonificati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 Rounded MT Bold"/>
                <a:hlinkClick r:id="rId1"/>
              </a:rPr>
              <a:t>trop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n which abstractions, animals, ideas, and inanimate objects are given human character, traits, abilities, or rea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lvia Plath's "The Moon and the Yew Tree," in which the moon "is a face in its own right, / White as a knuckle and terribly upset. / It drags the sea after it like a dark crime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pOLYSYNDETON</a:t>
            </a:r>
            <a:br>
              <a:rPr sz="4100"/>
            </a:b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(pah-lee-sin-duh-tuhn)</a:t>
            </a:r>
            <a:endParaRPr b="0" lang="en-US" sz="41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many conjunctions to achieve an overwhelming effect in a sent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junction: FANBOY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, and, nor, but, or, yet, 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This term, I am taking biology and English and history and math and music and physics and sociology." All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 make the student sound like she is completely overwhelme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ry replacing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 with commas… see how the pace and tone chang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Hyperbole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ope of exaggeration or overstate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His thundering shout could split rocks.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Yo mama's so fat. . . 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Vegetationsdam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 deity or spirit that repres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(or is directly equivalent to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vitality of domestic crops and/or native vegeta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spirit would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in enacted ritual, in sacrifice, or in mythological narratives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grow and mature as the crops would grow and mature, but when the crops would be harvested, or when the seasons would change with autumn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vegetationsdäm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 would either wither in death or would be struck down and killed in the harves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6416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I.e.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: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is synonymous to a nature spirit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Depending upon the mythic version, either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would be replaced by a new spirit with the new season, or the dead spirit would spontaneously resurrect and appear in the new season in young and vital form again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TRY IT ON YOUR OWN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rking with a partner, write a short piece (one or two paragraphs, one or two stanzas) using one of the technique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0Z</dcterms:created>
  <dc:creator>Gottner-Grant, Deborah</dc:creator>
  <dc:description/>
  <dc:language>en-US</dc:language>
  <cp:lastModifiedBy>Gottner-Grant, Deborah</cp:lastModifiedBy>
  <dcterms:modified xsi:type="dcterms:W3CDTF">2010-08-31T15:32:58Z</dcterms:modified>
  <cp:revision>17</cp:revision>
  <dc:subject/>
  <dc:title>Literary Devices</dc:title>
</cp:coreProperties>
</file>