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98E-F46A-4558-B715-5F56BD2B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6BE-A350-4024-9846-0A4B494F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DDE-309F-4183-81EA-1DB6ED4A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572-379D-4D79-ABA7-C8C07B44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D79B-3677-4C7D-9D12-05A47868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112A-9861-4C51-8586-7D505E1A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1241-34AC-489C-B00F-2C9612A6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6BE2-9003-4CD2-840F-3E0727DD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6B95-7127-4546-9F79-C91AEB43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B723-94F7-4467-B00A-9A2D6974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7738-1E8E-494E-B554-83A24B3C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D91-0F71-4D3D-A230-7195EBC1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7201-D0CD-4B3E-AE3A-78594BE9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051B-8CE4-40D8-831A-2C8375AB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88F2-AE9A-4739-A16D-D2306863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276E-3CD5-4965-B8AA-A9CB75AC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2F23-5038-45AD-95F2-6E0501A1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8DD4-5BC7-4D43-BD15-DE926073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F5C5F-DBD4-4B89-A3B2-BDE6BC71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2252-7836-40E2-9093-6539258F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9F677-45C3-4341-A5CC-F0F54DDC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8535D-C043-492A-8C74-DB6F10B6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798-8905-4BB7-8C0C-5D95E7A1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5C3D6-9C3B-40D2-8993-869D97B2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66749-433F-4309-A09C-B4264900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43107-30DB-43FE-BAD4-D5ED73EA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63B63-0056-42C2-B963-37DD47F8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AC1E-D391-4F7E-9B20-4FD1542F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A82E0-D058-4C0B-AEE7-6D7FF1B6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67792-1BEC-4C83-87A0-B47E9BAE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A92F6-7AC7-4EAC-8CE2-270BD8D4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36090-D3E3-4882-B9BD-B6156BCE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3A155-6920-4403-ADA8-70F2D02C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5AC-656F-4E70-9182-9EE098C8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B05EC-618B-499F-8705-590A1C9F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D0993-83CF-4975-80EC-97505CA9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FB57C-C55D-432E-A600-C02F823E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1B084-6FB9-4D9B-A6F3-3063BBF8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6D3C-577C-4D18-A24D-2D241665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D89D-D88D-4EAF-9454-625C3695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CE16C-D33F-49B4-8E77-1031CDD8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1A3BE-2978-45C0-819B-0E32C7ED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C1F49-02D7-47A8-9802-0BE223D3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0B6D8-0080-491C-940E-620A52A7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05C-5E09-4E30-914A-AB248652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20A11-7C75-4964-8372-3D21020A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5D6BE-706A-4A73-893E-A7FBC575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2048C-8935-4F10-AB21-FD12D3E4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A9145-ABFA-46C0-AAD3-EDF9D712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0F1E1-AAE3-4764-A092-60EE0719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043AC-49D3-4278-B9F6-8B17F13C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DBAAD-0C22-49F7-8D26-11873B09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FABC2-7006-4DE8-96D5-2ED23B5B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919D6-6193-4A72-8227-BD8DFD63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2EFE2-F034-4BF7-9C44-BF09E076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EF7-A333-445C-93C0-A2736B5C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542C8-59DC-4C97-B10B-0EC91586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43D29-62DB-4EFF-9C8B-56EDAAC1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5BCCD-CCC0-4A1B-A272-A5AF1F78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0B5FC-EC78-4B33-B00E-720C6991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8D2D6-7089-471C-ABD3-9CA17570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95842-50B1-4E43-9022-435FE53D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7FF50-C0E5-4274-A3FE-120171F4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E9958-9424-4490-8F42-7DB6A442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6EC2E-E131-4F51-A0ED-C720D967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CF7FD-496E-4BE7-BC2B-BFAE1EE5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7F6-24F7-4DD7-98F5-4D5DCE2E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F73FB-95EA-458F-BA7D-0A84E6BE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A34ED-1CA5-473C-8201-CCAA1FDE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8BC05-E13A-4BD4-819D-4B05CF3E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A578B-769F-4F58-BCC3-CA6073B5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5CB0B-05D4-4DAD-B9AB-864D2CD1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6D31A-71A4-46C5-9E9A-07D4C8FB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83E06-95D2-45DE-820F-87C391A5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9C692-766B-4C7E-8D7B-E7549C09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EC060-FA36-4D1B-A361-951CEF08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B2DE9-C25B-4E5B-941F-98495E77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4E0-7C75-4BDB-878C-9644B5D1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CF3FE-683D-4094-866F-2C1CE3A8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4A7A8-A671-495C-A92A-B6ED9AEF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BDB57-35B5-4344-BB46-15611BAB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1794C-5616-4B42-8BF9-6F1CBA24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82538-AF01-4D0B-B720-44546E20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8A0-07E1-4418-A6F8-FA027362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0575-D515-43FF-B9ED-BB4CE4A6C258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703C-AD3D-4686-A338-5F941A458035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41FC-7A79-4473-BF6C-09D7D7693392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296D-3095-4B7C-8FDE-A0FA4464F815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E992-A3A4-427D-8E74-DD0D98517D26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4CE5-94AF-43F3-A521-F2B080694BFF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CE76-7E40-40CB-A741-BF688F472D53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nweb.cn.edu/kwheeler/tropes.html" TargetMode="Externa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Literary Devices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383d"/>
                </a:solidFill>
                <a:latin typeface="Arial Rounded MT Bold"/>
              </a:rPr>
              <a:t>Try one of these with poetry, prose, or drama!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Paradox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ing contradiction in a manner that oddly makes sense on a deeper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Without laws, we can have no freedo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d all men kill the thing they love ~Oscar Wild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wards die many times before their deaths (Julius Caesar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Personification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Arial Rounded MT Bold"/>
                <a:hlinkClick r:id="rId1"/>
              </a:rPr>
              <a:t>trope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in which abstractions, animals, ideas, and inanimate objects are given human character, traits, abilities, or reaction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ylvia Plath's "The Moon and the Yew Tree," in which the moon "is a face in its own right, / White as a knuckle and terribly upset. / It drags the sea after it like a dark crime."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66e"/>
                </a:solidFill>
                <a:latin typeface="Showcard Gothic"/>
              </a:rPr>
              <a:t>pOLYSYNDETON</a:t>
            </a:r>
            <a:br>
              <a:rPr sz="4100"/>
            </a:br>
            <a:r>
              <a:rPr b="1" lang="en-US" sz="4100" spc="-1" strike="noStrike">
                <a:solidFill>
                  <a:srgbClr val="69666e"/>
                </a:solidFill>
                <a:latin typeface="Showcard Gothic"/>
              </a:rPr>
              <a:t>(pah-lee-sin-duh-tuhn)</a:t>
            </a:r>
            <a:endParaRPr b="0" lang="en-US" sz="41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ing many conjunctions to achieve an overwhelming effect in a sentenc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njunction: FANBOY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, and, nor, but, or, yet, so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This term, I am taking biology and English and history and math and music and physics and sociology." All those </a:t>
            </a: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 make the student sound like she is completely overwhelmed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Try replacing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a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s with commas… see how the pace and tone change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Hyperbole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trope of exaggeration or overstateme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His thundering shout could split rocks.“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Yo mama's so fat. . . ."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Vegetationsdamon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969840"/>
            <a:ext cx="4022640" cy="459288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A deity or spirit that represent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(or is directly equivalent to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vitality of domestic crops and/or native vegetat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This spirit would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(in enacted ritual, in sacrifice, or in mythological narratives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grow and mature as the crops would grow and mature, but when the crops would be harvested, or when the seasons would change with autumn,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vegetationsdäm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 would either wither in death or would be struck down and killed in the harves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64160" y="969840"/>
            <a:ext cx="4022640" cy="459288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Rounded MT Bold"/>
              </a:rPr>
              <a:t>I.e.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: the </a:t>
            </a:r>
            <a:r>
              <a:rPr b="0" i="1" lang="en-US" sz="2200" spc="-1" strike="noStrike">
                <a:solidFill>
                  <a:srgbClr val="000000"/>
                </a:solidFill>
                <a:latin typeface="Arial Rounded MT Bold"/>
              </a:rPr>
              <a:t>vegetationsdämon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is synonymous to a nature spirit.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Depending upon the mythic version, either the </a:t>
            </a:r>
            <a:r>
              <a:rPr b="0" i="1" lang="en-US" sz="2200" spc="-1" strike="noStrike">
                <a:solidFill>
                  <a:srgbClr val="000000"/>
                </a:solidFill>
                <a:latin typeface="Arial Rounded MT Bold"/>
              </a:rPr>
              <a:t>vegetationsdämon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would be replaced by a new spirit with the new season, or the dead spirit would spontaneously resurrect and appear in the new season in young and vital form again.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TRY IT ON YOUR OWN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orking with a partner, write a short piece (one or two paragraphs, one or two stanzas) using one of the techniques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50:00Z</dcterms:created>
  <dc:creator>Gottner-Grant, Deborah</dc:creator>
  <dc:description/>
  <dc:language>en-US</dc:language>
  <cp:lastModifiedBy>Gottner-Grant, Deborah</cp:lastModifiedBy>
  <dcterms:modified xsi:type="dcterms:W3CDTF">2010-08-31T15:32:58Z</dcterms:modified>
  <cp:revision>17</cp:revision>
  <dc:subject/>
  <dc:title>Literary Devices</dc:title>
</cp:coreProperties>
</file>