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64C-5593-4F2E-AB30-7B64DC70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D0B-AC62-4E93-AEA6-CEBA3BA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3CD-14D6-4EC9-BDB2-1897304E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68A-FE50-4DD8-88D5-5480E6CC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2B7A-108E-4C10-A196-F3975D92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77D9-7467-43AE-A3A1-601EB81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668-38F2-423C-971F-8C79AAB7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01BC-FB2E-47DC-BCE3-64C8A34D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A5D2-77FE-4348-B0D3-F3BCD7E9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6B1-EC88-4CA4-81A2-F7ED8184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8930-C3BE-4C70-B9DF-5B8EB3C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3C7-2E9C-4E8C-8F89-25F8B7A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F55C-76FA-4AF7-AEB8-ED3B625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A53F-8365-427D-8709-69DBB239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C74-9BCB-43E7-9278-1023F620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1CD-964C-41C0-9089-9EDDF596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9B57-1B98-4A36-ADEE-A9CF4EA0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DB2E-6B4E-4AFC-A562-E42F2221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244D-1664-4D3F-B364-1EFF3A1E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2FBF-75DB-4742-9435-CA0616B8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6CA2-0668-4914-ADB5-F3F1FE88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4A850-34B1-4C31-8C55-C4ED7EE4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D32-68F9-4647-886E-1981C888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B154-29EC-419F-AFF9-D7E97E59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C8B7-0B48-41A5-BCEF-5D63C7D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7EC2-F523-4553-ABA9-C4B1F774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6176-B681-4411-95CA-9A48A1E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6419-ACF9-47FA-9C48-4CAC975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DFA1-F7CF-414F-9698-8F6970EB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5F55-6A38-4FDC-A733-C9885E89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57B3-3E0D-45F7-A61D-28D5FD1E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9E99-433E-4C01-82C2-EC1D2C69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6191-E7FE-4473-99A3-46775A52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AE8-8305-4F0F-8859-B772770D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20B2-6471-4AFA-B7FF-B9A566A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76F9-9ED5-4AF3-91E5-A0F4345E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7B32-BDA8-420F-9697-1B99B5D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9874-CDD8-4709-A05B-3C767774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9874-A07F-40E6-B366-A5126531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2731-C6D4-419C-A8C1-B841B6F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FF88-DAF0-4CEC-AA0B-24CD668E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B54B-9AE6-44C4-BD26-7C955FB6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9F5D-83E4-4E0E-9189-008375E9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B534-5023-4D9F-A519-D07C3688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FAD-C3A7-4578-AC96-BAD0FA59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B603-9DD9-42C5-9D34-752459C9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047E-E523-4CF8-9546-F827FC2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8CE6-0230-40E9-8920-2699F8A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78D1-AEF1-40CA-8F37-C0FB8ABF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A968-D7EB-4D24-94E6-42571BB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2A55-8616-4681-9520-BBC4404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0E1E-B668-49D3-B967-1C1DCB2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0BC8-E45C-43E4-B6F6-A17273A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CA71-4498-43C9-BB72-990020D3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F63B-AAC3-4C1A-8391-8810BD37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8C1-583B-44CE-96D7-4ECC687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F4923-91F9-471C-9563-5BCBAB5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FDAA-76B6-4168-867B-9F6B813A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2C8D1-4B55-4A6C-AB65-9B92115D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BAE8-EFD9-4899-9B79-2DCB103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D691-BB50-4F90-BF15-EC87F636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7D42-CA70-46B8-909D-E8B7D8D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6BAE-1CFF-4050-B5E6-97AE4F68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E626-F369-4FBF-A2EB-ACBE2FC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BBC6-2AD4-44E1-BB31-7711029E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529B-6AF7-48DF-BF13-78B4CB0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98D-6A9C-4892-B44B-6051135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55CC4-719E-4CBF-9847-B28FE6D8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CFDB-65C0-4575-B5B6-3D8B7D48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9E11-BFFB-48EA-AE7A-248EBAA3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C942E-D3EA-4DC6-B57E-66C2972B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A33A-7D97-4CE9-B8B9-1E544BC8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4FE0-18CA-439E-A0FB-16CEA797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2B2B-5621-4B98-880C-FC90C6DE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18018-6EB5-46F1-942A-FD6036B8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51C41-4FFB-4364-8C28-B2C01FBD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B264-9711-4D9A-84BB-B38CF9B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706-BBDB-4F07-8177-928E1C4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A598C-45CE-4DA1-9EB7-2066DC1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32690-9208-4659-921F-7820C60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AF4EE-5ED3-4B77-9CE8-E0478D02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D3C1-B0AE-46D3-92BF-F77BE138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07A8-F1A7-42A7-A722-FCBBFB16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A9A-4AA0-4B56-9818-C2D1E1A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0728-8CA4-482F-B457-505351E5875A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01A8-E183-48F2-B98C-099B72D36BDA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A77F-F694-4472-B022-7E3F1AAB4F9F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4383-AF7A-4119-86E3-21EE7B7BA0C0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3CD-81E6-4582-9E54-4068F7D89049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9FC6-D13C-413B-BAB6-4DFB19A7135C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8DC-5E6B-4A5D-ADA6-18DA5C4D2456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nweb.cn.edu/kwheeler/tropes.html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Literary Devices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Arial Rounded MT Bold"/>
              </a:rPr>
              <a:t>Try one of these with poetry, prose, or drama!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aradox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contradiction in a manner that oddly makes sense on a deeper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thout laws, we can have no freedo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d all men kill the thing they love ~Oscar Wild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wards die many times before their deaths (Julius Caesar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ersonificati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 Rounded MT Bold"/>
                <a:hlinkClick r:id="rId1"/>
              </a:rPr>
              <a:t>trop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n which abstractions, animals, ideas, and inanimate objects are given human character, traits, abilities, or rea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lvia Plath's "The Moon and the Yew Tree," in which the moon "is a face in its own right, / White as a knuckle and terribly upset. / It drags the sea after it like a dark crime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pOLYSYNDETON</a:t>
            </a:r>
            <a:br>
              <a:rPr sz="4100"/>
            </a:b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(pah-lee-sin-duh-tuhn)</a:t>
            </a:r>
            <a:endParaRPr b="0" lang="en-US" sz="41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many conjunctions to achieve an overwhelming effect in a sent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junction: FANBOY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, and, nor, but, or, yet, 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This term, I am taking biology and English and history and math and music and physics and sociology." All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 make the student sound like she is completely overwhelme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ry replacing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 with commas… see how the pace and tone chang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Hyperbole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ope of exaggeration or overstate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His thundering shout could split rocks.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Yo mama's so fat. . . 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Vegetationsdam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 deity or spirit that repres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(or is directly equivalent to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vitality of domestic crops and/or native vegeta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spirit would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in enacted ritual, in sacrifice, or in mythological narratives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grow and mature as the crops would grow and mature, but when the crops would be harvested, or when the seasons would change with autumn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vegetationsdäm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 would either wither in death or would be struck down and killed in the harves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6416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I.e.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: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is synonymous to a nature spirit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Depending upon the mythic version, either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would be replaced by a new spirit with the new season, or the dead spirit would spontaneously resurrect and appear in the new season in young and vital form again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TRY IT ON YOUR OWN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rking with a partner, write a short piece (one or two paragraphs, one or two stanzas) using one of the technique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0Z</dcterms:created>
  <dc:creator>Gottner-Grant, Deborah</dc:creator>
  <dc:description/>
  <dc:language>en-US</dc:language>
  <cp:lastModifiedBy>Gottner-Grant, Deborah</cp:lastModifiedBy>
  <dcterms:modified xsi:type="dcterms:W3CDTF">2010-08-31T15:32:58Z</dcterms:modified>
  <cp:revision>17</cp:revision>
  <dc:subject/>
  <dc:title>Literary Devices</dc:title>
</cp:coreProperties>
</file>