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A9E-4DD4-4370-B7F7-C2934FCA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DF5-B992-49CC-8BFF-5D705A70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6F1-DE1C-49F8-B2EE-4B7FBF2C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DDE-BF13-4846-92A6-152AF342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9577-FA19-47FA-9FEA-ECD6E219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17A9-1776-44DA-A8AF-4DA96837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819E-3499-4E7F-9B9B-A02F7A26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BAF3-78E6-4922-8458-FF87ED3C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2D88-84DA-4E04-84B2-112F2A5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5F2D-AABA-44FD-A7F8-7700ED80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2359-7505-454C-82EF-A798D32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A9A-2005-4329-AD49-41134AE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9572-6AE0-4C0B-8FAE-33E4E7C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B0F2-3F1D-49C2-A73C-1229429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67F6-D965-4B61-B5EE-4783F923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886B-A24F-43AA-A878-73F5828B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F4A1-2914-4864-81B8-6460D288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3992-2FC6-4683-88F4-CEA28E95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F86E-E72A-4082-AB68-3F089CEF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D980-6588-454E-925C-1C8D5D81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199B-661B-4541-9AC0-7C81F33A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11B1-507C-4C3B-8B23-749A5A33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E12-3511-403E-BB4E-7AA987A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DA44-CDAC-4B97-B305-25FD83B5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A74A-E83C-4F83-8E16-B4DFCB0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08E3-2EDE-4F8B-BF7D-19D9327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A009-3580-4A31-A5A1-0C3A8F9A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15170-7BA7-478E-AB13-05134862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8B09-C849-44F6-B2AF-22453974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C62C-10D4-4354-BD87-A367342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44131-9FF8-4CA3-9360-EC346A38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70F69-4E22-463D-BFEB-7C53A684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C2E9-265D-4B02-940F-630B0F97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D7A-BE92-4727-9496-66BCC8C4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4F78-75B4-4D4D-876C-F26EDF30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C05D-3377-4CA0-9D15-653F2CAB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250C9-4EBA-4A0D-AE39-18AB21BD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36060-3FEE-45D9-BD08-5F9BB4E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818EF-BD21-45AD-9779-3807A02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22D17-D409-4CA3-A0BB-2E6D640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3BCC-228C-4E21-AF47-0EFDE529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E4CE-22D2-4380-8C55-FA430736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1EB4-C929-4195-AD4E-B32371B5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DA84-AC8E-45BD-BD9C-100DDA44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6EB-045A-4E06-A9B0-859FC8C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D760-5A51-40E3-96FF-B48A2665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07DFD-6CB0-4436-984B-A4985D2C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DBADC-5938-4012-B43B-CA4FBA69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232F-ECCC-4636-B1BD-9D175C5E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7A2A-1874-429C-8AEE-984EFE6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354DA-EEC4-4A14-9A7A-55B6808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C95C-E7E4-4516-AE0E-4A1488C8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00F44-92A9-4E6B-A3D9-9A7B7855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6B104-8B68-4CBA-BDFB-FD9F42B6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4A2D5-30C0-4EE9-A80C-EFBEDE7D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7E5-9C26-49D7-8B29-41B92516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DC35-603C-45AA-A51F-88201C26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000C9-CD92-45B7-BC8A-337F169F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823E6-2CDE-4072-AD7E-4C76BD3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D841A-105D-464C-9CC2-DAA16167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1B2EC-7EFF-4284-A692-9CC501AA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EE050-812C-4546-839A-BBB5CFC3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2C09-6DA7-4F50-B898-B47ECC8C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49519-ACD7-40F9-9B04-950E8666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AEB77-CAB2-4E9A-97A9-748ECCE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C34EB-4291-48D7-AD62-50B726BD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911-5657-4605-867B-8ED2B88C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A7FB7-C189-431E-A6FF-83F7755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4022-E74F-4442-9526-9644AC6E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9A8FB-2487-4FA3-869B-6E260E8B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4E487-DE30-444F-8245-122DAB19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862D-27C7-48F7-B6CC-D83C10B3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1C552-9953-4EA7-9941-EC4F7A9A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A585-3915-47F0-B604-D0D6BC3B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E3CBB-7EDD-4AB7-AEFF-370B8AB3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423BA-A7C3-4986-B7E3-EB15CF0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BBEF1-A71A-4F45-B0A3-553D029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356-9743-430A-B29D-1097BFAE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89AD5-B5C4-43E2-8DC8-C9F561BD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4405-CF26-4FFD-9E80-5C5F2002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D5C6C-23F7-439F-8715-F4A2AF45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12071-6A5B-4578-85A8-E996022A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C7B4-65EF-4636-AD9F-2F94333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09B-641E-44A8-B9A9-7A90380C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B43F-5E5B-4373-85F2-178BBCD1374A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88A5-4184-4DBE-B9C8-8ABDC0E8C436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A18A-2340-48CB-95A8-1A7C4BB25E02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64E6-8CAA-4446-A290-ABA21CDD9F67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2215-4C39-4012-A1AE-041D0EDEE490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3B9-3815-46C9-8D6A-A68970E933FE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D88F-FF18-466F-8D12-306837F7D67F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nweb.cn.edu/kwheeler/tropes.html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Literary Devices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Arial Rounded MT Bold"/>
              </a:rPr>
              <a:t>Try one of these with poetry, prose, or drama!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aradox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contradiction in a manner that oddly makes sense on a deeper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ithout laws, we can have no freedo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d all men kill the thing they love ~Oscar Wild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wards die many times before their deaths (Julius Caesar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ersonificati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Arial Rounded MT Bold"/>
                <a:hlinkClick r:id="rId1"/>
              </a:rPr>
              <a:t>trop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in which abstractions, animals, ideas, and inanimate objects are given human character, traits, abilities, or reacti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lvia Plath's "The Moon and the Yew Tree," in which the moon "is a face in its own right, / White as a knuckle and terribly upset. / It drags the sea after it like a dark crime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pOLYSYNDETON</a:t>
            </a:r>
            <a:br>
              <a:rPr sz="4100"/>
            </a:b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(pah-lee-sin-duh-tuhn)</a:t>
            </a:r>
            <a:endParaRPr b="0" lang="en-US" sz="41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many conjunctions to achieve an overwhelming effect in a sente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junction: FANBOY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, and, nor, but, or, yet, so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This term, I am taking biology and English and history and math and music and physics and sociology." All those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 make the student sound like she is completely overwhelme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Try replacing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 with commas… see how the pace and tone chang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Hyperbole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trope of exaggeration or overstate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His thundering shout could split rocks.“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Yo mama's so fat. . . 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Vegetationsdam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A deity or spirit that represen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(or is directly equivalent to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vitality of domestic crops and/or native vegeta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is spirit would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in enacted ritual, in sacrifice, or in mythological narratives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grow and mature as the crops would grow and mature, but when the crops would be harvested, or when the seasons would change with autumn,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vegetationsdäm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 would either wither in death or would be struck down and killed in the harves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6416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Rounded MT Bold"/>
              </a:rPr>
              <a:t>I.e.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: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is synonymous to a nature spirit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Depending upon the mythic version, either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would be replaced by a new spirit with the new season, or the dead spirit would spontaneously resurrect and appear in the new season in young and vital form again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TRY IT ON YOUR OWN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orking with a partner, write a short piece (one or two paragraphs, one or two stanzas) using one of the technique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0:00Z</dcterms:created>
  <dc:creator>Gottner-Grant, Deborah</dc:creator>
  <dc:description/>
  <dc:language>en-US</dc:language>
  <cp:lastModifiedBy>Gottner-Grant, Deborah</cp:lastModifiedBy>
  <dcterms:modified xsi:type="dcterms:W3CDTF">2010-08-31T15:32:58Z</dcterms:modified>
  <cp:revision>17</cp:revision>
  <dc:subject/>
  <dc:title>Literary Devices</dc:title>
</cp:coreProperties>
</file>